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E0B0-EF37-463E-95CB-77142514A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C079-5BCE-4815-BFBE-DDF3B820C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B792-9014-4BEE-8008-AAA0A14BA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A8C3-2BE5-4266-BD4B-3F476ECEF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28E-F0C5-4B2A-9A0F-75BD18967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BE0E-6ABE-47FF-8384-E08F5E91B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3491-4902-448C-ADA0-FED7A6444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74E2-04C1-4712-8B78-E4812B495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32C3-9518-4738-AFCA-73A19D470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CEB4-21A9-4C7E-A122-65DAFEC19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E54C-2830-4438-9386-F7BD2A4AB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4805-EC02-4A4B-A789-3AB6E0D96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209A-4D78-4D02-BCA5-19E5F51BF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F45-1D82-4ED5-932B-D12CAC7C6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77D-D2D4-42F9-8939-99AAC3D9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DA9-0957-4825-9C7D-829FDD7E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768F4-19BB-4086-A0C3-E57BC633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A0481-C533-4686-A974-1D51D203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1E88E-B7D8-4B4E-9FC4-0AC06D33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E6FB5-9CD3-4E83-ADAF-632F9B75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5BC35-F43E-45CC-8A0F-2A8A654D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E857C-B996-4CC0-9065-B1F0A914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0EEB2-ADA4-4E78-847A-AB4091F4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AC551-A780-4138-AE43-45D44D63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94408-79C9-42D6-9030-52B27128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9D6-C7F7-4048-8EBE-87FB77D8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051-2E5B-499B-BCC3-EA9DD886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6CB7-B1F4-4BD2-BBAB-CBB0A084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CA4F-8A49-4D60-8669-A84E82AD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7509-8C0C-49EB-B287-17A2CEC9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BAF1-BE40-4FE9-A37F-F7513F49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102-2B58-4B7F-94F0-AFC03FD1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2255-DE45-45BF-943C-B8658E15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7627-0B67-4CDA-8635-741ABF8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3ED-BC51-468F-8505-E5A46874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BBD-9E57-45D1-9791-748F671B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08E6-A845-4635-A0D1-FCCB248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644D-9327-47A7-8338-A19598ED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B8E9-B542-43ED-899F-2A5EB0B9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33AF-FE8A-4950-AB3C-4AAC5648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4B1A-4C6F-4B74-807C-A1FBF6BD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A298-50C1-4ED1-BD5C-68B57C4B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DFA5D-AAD4-4EEA-A571-93BCEB3F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FC1F-79EE-401E-AF6D-D44D424C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BDBE-6A5F-4C4D-B4B8-5329F812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014-2F24-4484-A730-5D2E62D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87BD-6AC7-4345-9A5E-06D1884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AE8C-C3D6-4D82-977A-EE976968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E31B-0673-4BC6-90CE-81B54782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45F7-60B0-42DC-A76C-749D70A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B913-5DC4-4903-8D1F-4D5F7328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790D-D8EC-498B-8088-9F1F28B0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9770-C014-40F6-AD1B-378285B3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26BF-D190-4311-8ABD-7CBEA083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318D-2E64-44A5-985C-FC3B3AA5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2C1C-70FF-4023-BE6D-7684732F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F70-E697-45D7-BDF9-F1671261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12461-50B4-4C3E-AEF9-C53FE633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79636-9554-4B70-8885-5FB5CAB9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52081-62C9-4413-BB3F-59C55838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6E6E-7D30-4C5F-9D57-30E3AEF9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25AA-F702-4618-8185-B62B80F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BF21-8768-43EB-AD21-20C02B9C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7A4B-06BD-46AD-BF69-3439B3B0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0CEC1-B4FB-4FDE-B4BB-4144890F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F518-10C7-4BFC-9361-7C2ADBED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61CB0-A950-456E-897B-75813E54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775-AC06-4371-B0F8-297D242B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FC2B-2FFA-4245-9EF5-95947C6D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568B9-3CE3-4B9E-9A17-6CDCA687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C8057-8CAF-419E-9807-2F838AA6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AA2A-FD1D-452D-A223-AA0815BA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E24E-2C96-406B-A0DE-328831C2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08F8-DD42-42E6-AD80-9D8361F9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27FE2-9916-4859-8CF5-42B792B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A2A0-0976-4BC0-845E-30C3E029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C8909-7AA8-4082-8C04-45D7AC4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92DB4-0191-486E-9B18-D9EC75D4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C2C-99BD-4DE1-8A15-842421FD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B38E8-73DF-4D9A-BF20-2BB11C96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A3A3-1E5C-4835-9FFD-9C3E55D9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6CC19-B7AD-460F-B788-102B885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B0EE-94BC-4324-9C30-E001669D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477F-82E5-41DE-8B34-B488F80E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F252D-8D9E-48C0-B517-808CBF09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EE2C-EDF7-4779-8527-C03C149D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F18E1-6C19-4227-9930-60EE15F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D5C0-74F4-42CB-BDE4-B58E3863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97F7-1E4F-47B3-89B5-7E5E67F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78E-9587-4D64-8147-74FE5A0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36A3-FFD9-429F-8E92-96B5B178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2F2BB-3504-42B8-85E1-E731E414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EEAEA-767D-4706-85AB-2D2D8DD6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0EC15-C7ED-4803-8A26-8CCFA906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BEF8-5D94-4735-AD24-3E468DBE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691C8-13F3-4774-9B85-7C6A1FFE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80A2-8F7C-4043-A755-61B261C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33ABA-FCF9-472F-ADBF-2298ACDC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8BAB2-50DB-4B88-8742-5624457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CA9E9-B86B-45C1-AB2F-8BA3AA6B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FE3-7137-4A81-9C26-7FB0FE92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D3FF-0703-462A-B1B5-EB3DB08E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33976-7AF8-4D59-A7BE-7E62297A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B429F-0D68-415B-B7F2-2BC968F5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FA855-63F2-4E05-8E60-0CE1EE92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DD993-4448-447D-9064-9EDED2DA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50B8-1538-4397-893A-B68C8F87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63537-3606-4349-A96B-0FBAB99C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D7498-5E82-4859-807F-2C9D1DC2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CA6D9-1B63-478F-825A-F1097F15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FD7F1-01CB-4019-A664-C4B8200C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F3B-5399-4B0F-AFF9-0AFD6D00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7D156-F954-41DA-925A-4B615136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82740-9786-4B6F-B73F-204DE59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50046-BE81-490D-A237-138A2073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E50EB-EE8C-45E4-96E8-ACE8E90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28D3-9771-46A9-9DEE-12997418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98CCE-FD8A-49C1-AC30-8C8A4384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4AB7D-207D-445D-8DBE-2D3AFAD1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5C775-C6F6-4FCD-BC4F-813E2B2F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AB37D-8C78-423B-91AE-3B137FEA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22EA3-0E6D-45A6-BD0F-4E95AE53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FFD3-94EA-40BD-8DBE-1CA86759303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B61E-CFBF-4E03-A7B8-7663B829CE9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7AC2-ABE9-4BB7-8FD6-BF895E54895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CDE-9DF7-44CC-94DE-395336E5927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32FF-EA9B-4EC9-B3F5-94A7EC614AE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AC05-318C-4135-A113-80D9D4BCD87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1B7A-4827-4FE9-828F-B7267E371CD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2C60-A862-4D8E-BB47-1C9C309E983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AAB9-40FA-4B09-B25F-D75AD4AD7DE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highered.mcgraw-hill.com/sites/0072495855/student_view0/chapter2/animation__how_the_cell_cycle_work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he Cell Cyc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Mito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Content Placeholder 4" descr="Anaphase.jpg"/>
          <p:cNvPicPr/>
          <p:nvPr/>
        </p:nvPicPr>
        <p:blipFill>
          <a:blip r:embed="rId2"/>
          <a:stretch/>
        </p:blipFill>
        <p:spPr>
          <a:xfrm>
            <a:off x="152280" y="2362320"/>
            <a:ext cx="4864320" cy="2811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181480" y="22093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ster chromatids separate into individual chromosomes and move towards opposite ends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4" descr="Telophase.jpg"/>
          <p:cNvPicPr/>
          <p:nvPr/>
        </p:nvPicPr>
        <p:blipFill>
          <a:blip r:embed="rId2"/>
          <a:stretch/>
        </p:blipFill>
        <p:spPr>
          <a:xfrm>
            <a:off x="152280" y="2438280"/>
            <a:ext cx="4584960" cy="280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952520" y="2209680"/>
            <a:ext cx="4038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hromosomes gather at each end of the cell and lose their condensed shape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Two new nuclear membranes form – one around each group of chromosome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6" name="Content Placeholder 4" descr="Daughter-Cells.jpg"/>
          <p:cNvPicPr/>
          <p:nvPr/>
        </p:nvPicPr>
        <p:blipFill>
          <a:blip r:embed="rId2"/>
          <a:stretch/>
        </p:blipFill>
        <p:spPr>
          <a:xfrm>
            <a:off x="304920" y="1447920"/>
            <a:ext cx="4800600" cy="2149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510516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ytoplasm pinches in half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daughter cell has an identical set of duplicate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plant cells, a cell plate forms to separate the two daughter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304920" y="358128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wo new “daughter cells – the cycle is about to repeat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5" descr="plant cytokinesis.gif"/>
          <p:cNvPicPr/>
          <p:nvPr/>
        </p:nvPicPr>
        <p:blipFill>
          <a:blip r:embed="rId3"/>
          <a:srcRect l="0" t="0" r="0" b="23685"/>
          <a:stretch/>
        </p:blipFill>
        <p:spPr>
          <a:xfrm>
            <a:off x="304920" y="4495680"/>
            <a:ext cx="47242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3760"/>
            <a:ext cx="86868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at is the purpose of mitos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scribe how a cell’s chromosomes change as the cell prepares to divid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Title 4" descr=""/>
          <p:cNvPicPr/>
          <p:nvPr/>
        </p:nvPicPr>
        <p:blipFill>
          <a:blip r:embed="rId2"/>
          <a:stretch/>
        </p:blipFill>
        <p:spPr>
          <a:xfrm>
            <a:off x="285840" y="349884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3" name="Content Placeholder 5"/>
          <p:cNvSpPr/>
          <p:nvPr/>
        </p:nvSpPr>
        <p:spPr>
          <a:xfrm>
            <a:off x="304920" y="4267080"/>
            <a:ext cx="86868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W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ersonlivingenvironmen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Course Content: R &amp;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March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22400" y="450720"/>
            <a:ext cx="8875440" cy="111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Biondi"/>
              </a:rPr>
              <a:t>Do Now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a living thing grows, is it because their cells get larger or because it produces more cell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most cases, living things grow by producing more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 average, the cells of an adult animal are the same size as those of a young animal – there is just more of th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NA “Overload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genetic information within a cell does not make copies as it increases in size, and the DNA becomes less able to fulfill its need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changing Materi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rate at which a cell uses up food and oxygen and produces wastes depends on its volume, and the cell membrane becomes less able to handle the constant movement across i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2600" y="450720"/>
            <a:ext cx="9137880" cy="993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ellular Divis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process in which a cell divides into 2 “daughter”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ular body cells undergo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MITOS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when they divide and produce new cel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0" y="182844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eries of events that cells go through as they grow and divid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1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Grow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DNA Replic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Pre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&amp; Cytokene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Content Placeholder 4" descr="Cell Cycle.jpg"/>
          <p:cNvPicPr/>
          <p:nvPr/>
        </p:nvPicPr>
        <p:blipFill>
          <a:blip r:embed="rId2"/>
          <a:stretch/>
        </p:blipFill>
        <p:spPr>
          <a:xfrm>
            <a:off x="4648320" y="1801800"/>
            <a:ext cx="4343400" cy="43210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0" y="6324480"/>
            <a:ext cx="8991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highered.mcgraw-hill.com/sites/0072495855/student_view0/chapter2/animation__how_the_cell_cycle_works.html</a:t>
            </a:r>
            <a:r>
              <a:rPr b="0" lang="en-US" sz="13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Content Placeholder 5" descr="Prophase.jpg"/>
          <p:cNvPicPr/>
          <p:nvPr/>
        </p:nvPicPr>
        <p:blipFill>
          <a:blip r:embed="rId2"/>
          <a:stretch/>
        </p:blipFill>
        <p:spPr>
          <a:xfrm>
            <a:off x="304920" y="2678040"/>
            <a:ext cx="4190760" cy="2568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6479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1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ell growth occu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increases in siz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w proteins are synthesize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New DNA is synthesized when chromosomes replicate themselv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Organelles and essential molecules are produc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2057400"/>
            <a:ext cx="8686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Phase of the cell cycl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ccurs in 2 stag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Mito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nucleu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ytokine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cytoplas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4" descr="Pro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507996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486040" y="20574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romatin condenses into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entrioles separate and spindle fibers start to for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uclear membrane disappea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Content Placeholder 4" descr="Meta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4952880" cy="3301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409720" y="2057400"/>
            <a:ext cx="358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hromosomes line up at the center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chromosome is connected at to a spindle fiber at its centromer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59:10Z</dcterms:created>
  <dc:creator>Joy Finerson</dc:creator>
  <dc:description/>
  <dc:language>en-US</dc:language>
  <cp:lastModifiedBy>Joy Finerson</cp:lastModifiedBy>
  <dcterms:modified xsi:type="dcterms:W3CDTF">2010-02-26T16:06:39Z</dcterms:modified>
  <cp:revision>35</cp:revision>
  <dc:subject/>
  <dc:title>Cell Growth &amp; Division</dc:title>
</cp:coreProperties>
</file>