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105B-92BD-4C61-91F2-7F7A14182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6A01-7FBF-4C45-BBA3-3346AD7C4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2095-5B5E-495C-B986-FEA876A38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DD7F-F8BA-481C-9BB0-6F95662C3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2630-8A28-44D9-96A3-7255D1BAA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4CE6-8192-4B25-A1AC-9B22414E2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92EC-8907-464D-8635-FE482291A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C4C9-0B48-4B8B-BCD0-B04B37A7B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E9AF-1E6D-43CD-B759-43D4E217D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DC77-BE7A-4B6C-B571-549B30CF3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1E39-683D-4AE7-B725-0D597FE82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923-9690-48B2-AD54-2855F7B1A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B4F8-BF3F-4780-BFF0-F0D7DF7FF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D601-B891-441E-9C65-B3FC70C90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269-D239-4D28-9556-874967B9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B96-B10F-4544-A0F6-5A1A5CB9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B55C2-6A25-48D8-9D6C-BE9AF435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C86EE-D32F-4BEB-986D-4A7408A5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1B628-E4CE-4523-B797-B35596B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FBE7E-B406-4BE7-88CA-879EED6A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AC71F-E84E-4FE9-A0D2-148DC5EF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8E507-3A59-4DD8-8E27-8728E82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86974-DC61-465E-8095-0922EDB3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9EE66-5DD8-4E7B-B1BA-3ED76335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20C2A-2CD8-436D-9B47-C4E5C45F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FB4-EE32-4F2F-B17A-E1853558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0BB-A4F8-4EA0-83ED-D0C03181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1D2D-D1EB-495E-888B-F037E256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4EEB-20F3-4C36-B0D2-60E115A2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76FC-A8DA-4EE4-9A0D-F0FF588D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E70C-C669-44CD-BC35-F56A866D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4F8A-7E45-48F3-8DA9-278C5892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CFE3-0924-41D8-A330-8312BB5C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E4DA-CA8C-4429-ADCF-37DB2E13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36B-7096-45EE-975F-16ACD856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E1C5-4B4D-428D-8AD9-CE5EB0E6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B411-E509-4D99-925E-7A3AB06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6545-8A6B-460A-91A5-733DBB2F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226D-0F71-4C13-AE3E-E67AFC52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E2B3-4EF1-4142-9BC1-AD7ADA4B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B716-F2A2-4E2D-B3EB-2DAC17D2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2ADE-7E2E-457D-9F25-88A66ACF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E070-B47B-44CE-94A4-8EF64729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F860-2FD3-40A0-91FC-0EAE9098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5766-D12F-4BCE-BA8A-C742A118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B4B-F3B0-467C-A0AC-8258B19C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0715-0ACE-41AD-9092-E90D6621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8B00-57DD-490A-97A6-9E05E50D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954F-CDF2-4C44-BD86-B44DC716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25FFD-F71F-499D-83EC-0973A7EE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7D577-7CA1-4946-92D7-31145FC4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E428-0075-4546-B2B6-405387B0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0E03-6B6B-40B7-8651-347A25F2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F107B-5268-4BA9-8638-3CC9B84B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352A2-FA28-4966-857B-F1703395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998B9-50AE-451F-B2AF-084D8579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1DF-7560-4A3E-9487-C7E5265F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15243-5A7E-4FF2-B388-C9A2CED5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4F8A-9DF7-452C-A774-D6B45468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38D1-7490-46F0-ABA1-2E4DAC0D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2452C-E8BB-462D-BE5A-383273CE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34B8F-66C2-4A10-9240-9044A656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61F59-E8AC-48BA-AE3D-2F0AD187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3B6EB-4FE3-48C0-86D5-92B3115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3EEF-0080-4453-896B-FEE77C94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48FA9-AD5A-4AD0-9FC7-A3068CB8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EC87C-90F3-4C05-BF46-843D1097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D30-D8DB-4780-B91C-C244B123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C3C70-5B5F-4905-AEBE-5596CFC9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45852-B9F3-4052-94E3-47071BB9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494E-D567-4357-BA9D-DBAA47BB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881F1-C525-452E-9BF3-4D3872AC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8AC2-A0BD-4329-9802-40B3F34D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D0C6C-BAF6-4B83-9145-B37761A3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06564-1697-4EE9-984F-0E5BFA53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D968-749D-42F1-9FF9-9C725096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4CEF7-284A-49F5-9652-8EB9D849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72D84-78D9-4264-A7B4-5678CB7E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A89-CB33-4599-AC31-D20E5CD8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3CE6C-3E11-4E29-8A23-DAF608DE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86DA6-23BA-4705-AF15-D5438FD7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39383-59AD-44B9-9464-AEE62AFC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B9C29-81A6-4826-9A63-5ED3858F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EC573-D440-4F69-9AA8-737796C7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0850F-322A-45FB-AAAA-AA2BAD51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99BD1-D8D2-4EF0-B744-306EC4BA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09537-9C22-4F46-AC86-60101ACB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72510-B741-41DD-A219-811943E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1FBFF-9E2A-43B1-8F5F-DC5646BB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F1A-839E-4911-8D88-F50A6ED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018B5-3002-4492-9912-973E2C6B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14424-A0E7-4B56-AF15-7B2EAB18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04D8E-85D7-4838-B0C9-E0499E38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BA8AF-C59A-4F41-A76E-4948FBC1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7ACF7-5839-4E2F-AA1F-DA69323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86058-602E-40DC-B90A-3ED721E5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A0C8E-DE53-4313-8315-331B499B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4A531-4BBC-4959-BC76-71FEBB0B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DC40C-6795-4747-8F06-590406BD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33981-0F18-4E09-A2E4-560B2EF0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C93-60C5-49F8-9992-05C4C9ED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A6539-8E94-45CC-8D65-AE3D813C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3CE54-6E09-4AD9-AD04-5B8194A1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D498F-9114-4D4A-800D-1102A35D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8275C-8361-42FE-8668-F881E15A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5D86A-F2AB-4718-BEB6-203B6B72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D250F-998B-4E38-BE74-C163E8B5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D851A-A2CA-4DD2-850E-AC2FE3F8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7C7E6-3274-4B1F-87F1-838A63CF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9C75D-49C7-48C2-9942-F102D5C0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449F8-0601-4F16-9C4A-08D736C1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1A2-4E33-4E1F-BAEC-3273E3C6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4E542-1288-4BCF-9F07-34487756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4365D-59E2-40D2-AFF1-AA019EB3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4AB30-6C04-4E41-B6FC-05F71A1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6E300-7761-49C1-BE61-0AB994FD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4EE1C-0113-46EB-B2AA-E625C0B3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7DA04-D4C2-40E7-9893-D072A5A0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4676A-0BA8-43D8-9301-470CC178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B5D7A-7C55-43D2-AFAE-770AA760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AA6A8-A13D-4DA9-B9FA-70991C11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43056-521D-40D0-B0FC-13B595B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A53E-1B24-4420-9C8F-BD8B1532AF9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1EEF-255C-4DEB-9542-7A28CE54796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B70F-B38E-4C8F-8E22-215903BD8FC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3CA9-CB18-4FC5-BF22-2CEACDE1DA2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65F2-B8AA-4407-AC6C-178D3D57F6C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D77D-BC7B-42A0-97A4-494F5CBA140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5D66-D92D-4146-BFF8-3F73656742D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52E4-AC88-455C-8711-9C4EB8A4E2B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FC1D-0CBE-4313-AD8F-3C0D8A55466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highered.mcgraw-hill.com/sites/0072495855/student_view0/chapter2/animation__how_the_cell_cycle_work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he Cell Cyc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Mito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Content Placeholder 4" descr="Anaphase.jpg"/>
          <p:cNvPicPr/>
          <p:nvPr/>
        </p:nvPicPr>
        <p:blipFill>
          <a:blip r:embed="rId2"/>
          <a:stretch/>
        </p:blipFill>
        <p:spPr>
          <a:xfrm>
            <a:off x="152280" y="2362320"/>
            <a:ext cx="4864320" cy="2811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5181480" y="220932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ister chromatids separate into individual chromosomes and move towards opposite ends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4" descr="Telophase.jpg"/>
          <p:cNvPicPr/>
          <p:nvPr/>
        </p:nvPicPr>
        <p:blipFill>
          <a:blip r:embed="rId2"/>
          <a:stretch/>
        </p:blipFill>
        <p:spPr>
          <a:xfrm>
            <a:off x="152280" y="2438280"/>
            <a:ext cx="4584960" cy="280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952520" y="2209680"/>
            <a:ext cx="40388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Chromosomes gather at each end of the cell and lose their condensed shape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Two new nuclear membranes form – one around each group of chromosome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6" name="Content Placeholder 4" descr="Daughter-Cells.jpg"/>
          <p:cNvPicPr/>
          <p:nvPr/>
        </p:nvPicPr>
        <p:blipFill>
          <a:blip r:embed="rId2"/>
          <a:stretch/>
        </p:blipFill>
        <p:spPr>
          <a:xfrm>
            <a:off x="304920" y="1447920"/>
            <a:ext cx="4800600" cy="2149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510516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ytoplasm pinches in half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daughter cell has an identical set of duplicate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plant cells, a cell plate forms to separate the two daughter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304920" y="358128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wo new “daughter cells – the cycle is about to repeat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5" descr="plant cytokinesis.gif"/>
          <p:cNvPicPr/>
          <p:nvPr/>
        </p:nvPicPr>
        <p:blipFill>
          <a:blip r:embed="rId3"/>
          <a:srcRect l="0" t="0" r="0" b="23685"/>
          <a:stretch/>
        </p:blipFill>
        <p:spPr>
          <a:xfrm>
            <a:off x="304920" y="4495680"/>
            <a:ext cx="47242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4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3760"/>
            <a:ext cx="86868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at is the purpose of mitosi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scribe how a cell’s chromosomes change as the cell prepares to divid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Title 4" descr=""/>
          <p:cNvPicPr/>
          <p:nvPr/>
        </p:nvPicPr>
        <p:blipFill>
          <a:blip r:embed="rId2"/>
          <a:stretch/>
        </p:blipFill>
        <p:spPr>
          <a:xfrm>
            <a:off x="285840" y="349884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3" name="Content Placeholder 5"/>
          <p:cNvSpPr/>
          <p:nvPr/>
        </p:nvSpPr>
        <p:spPr>
          <a:xfrm>
            <a:off x="304920" y="4267080"/>
            <a:ext cx="86868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W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ersonlivingenvironment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Course Content: R &amp;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March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22400" y="450720"/>
            <a:ext cx="8875440" cy="1116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Biondi"/>
              </a:rPr>
              <a:t>Do Now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a living thing grows, is it because their cells get larger or because it produces more cell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 most cases, living things grow by producing more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 average, the cells of an adult animal are the same size as those of a young animal – there is just more of the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NA “Overload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genetic information within a cell does not make copies as it increases in size, and the DNA becomes less able to fulfill its need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changing Materia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rate at which a cell uses up food and oxygen and produces wastes depends on its volume, and the cell membrane becomes less able to handle the constant movement across i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2600" y="450720"/>
            <a:ext cx="9137880" cy="993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ellular Divis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process in which a cell divides into 2 “daughter” cel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ular body cells undergo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MITOS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when they divide and produce new cell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0" y="182844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series of events that cells go through as they grow and divid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1: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Growt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DNA Replic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Prep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: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Mitosis &amp; Cytokenes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Content Placeholder 4" descr="Cell Cycle.jpg"/>
          <p:cNvPicPr/>
          <p:nvPr/>
        </p:nvPicPr>
        <p:blipFill>
          <a:blip r:embed="rId2"/>
          <a:stretch/>
        </p:blipFill>
        <p:spPr>
          <a:xfrm>
            <a:off x="4648320" y="1801800"/>
            <a:ext cx="4343400" cy="43210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0" y="6324480"/>
            <a:ext cx="8991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highered.mcgraw-hill.com/sites/0072495855/student_view0/chapter2/animation__how_the_cell_cycle_works.html</a:t>
            </a:r>
            <a:r>
              <a:rPr b="0" lang="en-US" sz="13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Content Placeholder 5" descr="Prophase.jpg"/>
          <p:cNvPicPr/>
          <p:nvPr/>
        </p:nvPicPr>
        <p:blipFill>
          <a:blip r:embed="rId2"/>
          <a:stretch/>
        </p:blipFill>
        <p:spPr>
          <a:xfrm>
            <a:off x="304920" y="2678040"/>
            <a:ext cx="4190760" cy="2568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6479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1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ell growth occu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ll increases in siz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0720" indent="-277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w proteins are synthesized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New DNA is synthesized when chromosomes replicate themselv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G2: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Organelles and essential molecules are produc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2057400"/>
            <a:ext cx="8686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Phase of the cell cycl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ccurs in 2 stag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Mito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nucleu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Cytokinesi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division of the cytoplas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4" descr="Pro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507996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486040" y="205740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romatin condenses into chromosom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entrioles separate and spindle fibers start to for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uclear membrane disappea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Content Placeholder 4" descr="Metaphase.jpg"/>
          <p:cNvPicPr/>
          <p:nvPr/>
        </p:nvPicPr>
        <p:blipFill>
          <a:blip r:embed="rId2"/>
          <a:stretch/>
        </p:blipFill>
        <p:spPr>
          <a:xfrm>
            <a:off x="304920" y="2057400"/>
            <a:ext cx="4952880" cy="3301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409720" y="2057400"/>
            <a:ext cx="3581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chromosomes line up at the center of the cel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ach chromosome is connected at to a spindle fiber at its centromer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22:59:10Z</dcterms:created>
  <dc:creator>Joy Finerson</dc:creator>
  <dc:description/>
  <dc:language>en-US</dc:language>
  <cp:lastModifiedBy>Joy Finerson</cp:lastModifiedBy>
  <dcterms:modified xsi:type="dcterms:W3CDTF">2010-02-26T16:06:39Z</dcterms:modified>
  <cp:revision>35</cp:revision>
  <dc:subject/>
  <dc:title>Cell Growth &amp; Division</dc:title>
</cp:coreProperties>
</file>