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55D6-0830-4A8E-92B1-0307EEAEE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3191-7956-48EB-B131-65D2E6EDA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44F9-7C43-4021-8F22-E86FC760A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51DA-7968-4E8E-8A30-454F23E4D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C832-892D-4541-A865-FA3ED4BFF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6FD6-7261-4738-883E-89449910B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1B57-7A0A-4B0E-AA7E-7B00C8AEC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11AF-FD03-4D14-A597-DE5226AB3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F488-FDAE-4199-ACE3-6F8B75D92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F815-8C13-4E1B-9545-3311D3514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6B40-D683-44A5-9F77-3ABAD71B0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CB18-EDDA-4BC9-BB70-EA5BE6CC9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126B-A1E6-4EE2-89D8-4A47A0CE9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615D-D3BD-4B5E-91B4-4C1D322FD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2E19-3BB8-4300-BA3E-6B45D9D0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B71-9F7D-461F-A969-E5584B2A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DA427-61D4-4CD7-80E3-DD729E5C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3B2DD-C3E8-40CA-ACF4-7BF27E2B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C111E-8C5C-4564-8E3F-E5AD1B81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96D66-1909-4D71-BCBC-458CC19A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D24CF-B1A0-4AA5-9EC1-4A91A2F6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1B56F-346E-48AE-B07F-719C96B5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A853E-1CD3-43BE-85FA-86A1F991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6A814-08B9-429A-AD09-DA28B195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C1A00-2F05-417B-92CA-FB92F0AE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D41-50E4-415C-B75D-B3C8F34A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9E6-4D75-42FB-89D5-E5603E80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1D2B-74A2-4D1B-A04C-80274EAB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67C3-1531-4213-90F0-16012162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4BFC-AF9E-4256-B6BA-DDCCFA4D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7F9A-BC83-41A6-A01F-1D260929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05F3-2ABB-4333-B846-CBAE1B34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DC42-CE35-4166-AE7B-B0A49B08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B3C5-054A-4F7E-8057-847A68E6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744-D152-404B-A2A0-5D2344F7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ACCA-6F97-41D9-BB4A-07182A60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7638-3C43-49C6-9C8C-556EFDEC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63D4-D70C-4447-8FDC-34609857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2F5A-B6BC-4F73-9867-1AE0F529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5E26-6D86-4E15-98A9-7AE9F33B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D1849-DC77-4CD6-B75C-3120DBD8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C09A0-F12A-4D59-9E2E-A35201E4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1141D-E5CD-4612-B9DF-01B7DB22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07D63-0F08-4B68-BCB8-A78D2BDD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E6A40-F521-4C7F-B69B-642E3F75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0858-99B4-4975-A062-DB573C42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4F13A-FF02-4953-B4D8-5CC5A86A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5AF7A-715F-4810-9A3C-47802544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47D30-9868-4921-B5D3-8614B474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F6FE7-760D-4AB4-965D-A92A1A6D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54988-74DE-4B2C-B471-D6D613A8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E0B0-6252-4BD9-9EEE-14D29CC9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3A888-367F-4EFF-B389-DDEF5F21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C11DA-3BB3-44DF-ABCE-B68A2597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7A245-1480-4DBE-B5F0-AE2AA66F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A75FD-4AD0-45A6-B194-8859EFBC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9E6-650B-4995-9D56-CAA88C1F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ACB00-6DDD-4C66-83FE-0E12DBC8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AFF57-BFDB-4EDD-AC70-CF3E46DF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32FB2-CDED-4D37-A6F7-F8C2F476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13ACF-78F9-4E8D-93B4-2EDD5ACE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D3417-8FDD-4ED2-A4B9-A25FAB86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D89B6-95D1-42E8-8305-AF01656B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DF763-39E9-4AC3-A901-ED5EC253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C82EC-C0C0-49F6-9DEF-049C8D55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86B1A-2AC6-420F-93D2-AFFDC1C5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82295-029D-4D3C-9EE6-567FF502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48F-6483-4519-9062-B58F44D1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1836D-24B1-4F7A-812A-B5DE9799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6CDD2-DBD5-411C-9538-E14C343A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339BB-C48D-48FD-9D13-09BEAC96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36072-5FF7-4088-B749-51083C63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D0FDA-D74F-494E-A83D-7D0378DA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BA99D-1DEB-4627-BA3D-C19A8AA3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513A7-F0B4-416A-A6C4-D1D737A9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147C7-B479-4B80-AC7D-81D231C3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26B3C-DFEF-45C5-888D-EACBDC00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082E7-65B0-4DB9-89AD-8600C938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0379-6D38-44FD-8B3F-36E71D4A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22CF7-75E1-4AF3-969B-CF35DC52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30BF8-9E69-433D-9319-A54E410D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AD73B-A84E-4F8E-ACE4-D32FB8E5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5D0BC-FA72-4AB6-8EBB-1F7580DF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1E432-05C0-4363-954B-CFC3EB3F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58066-6CE5-4941-9418-3AE583AB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88CDF-4BDB-409F-924C-FC4032F8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98C3C-C95F-4D5B-B0E7-31A11B0C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81ED0-885D-4DD6-A39F-4737A566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43888-CCCC-4791-B250-A912C5E6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875-DCA2-4EA5-9EA2-8F3179B6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F3F44-AE0A-4622-A955-C3D56E13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912EB-3E50-45FA-BD98-4F16154D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61CB6-30A3-4787-9495-226DB360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D0428-B0D4-4227-854F-A1B50F2F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B5414-93E3-498C-9CF9-B3DDB3B0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81814-47CC-4DD3-97C7-D9ACCF11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AA9F7-23C5-45E4-9F88-63ED798A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94153-32D3-4D19-AFA1-3394D6D5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E3162-24BD-4F31-86F2-6E6119DF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11F55-75F4-4DDA-92B8-03A3E2BD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A8E-97A9-47D3-B996-AF3C60A7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78A11-EEF4-4A5A-8A27-45E08E0B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5FBF3-8C4E-4701-A071-476328D0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4D559-1BE1-4640-A392-C2C4E703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AB9EE-FC88-4A31-A42D-86D52D38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D14FD-8A2C-4F2B-970C-45680581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8B99D-F3D1-4E6A-8A53-F31AD7A7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2008B-1B86-40AC-ACC1-226FE0C6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32B18-4C9F-474C-8B68-7EDD934C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685CD-4ABB-4B23-A20C-F8CF6487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6B8A8-1249-43A3-B489-ABFE3F24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F5FA-0394-4DCD-AC53-AD7F5064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2E030-6FEE-492D-977E-5ED81C3E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3BD60-6B4F-41DD-AB75-9F1E69F4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E5F95-EF80-49AA-8384-18E308C9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DAB7B-8D58-4A72-99DF-F6B75D4E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451A5-F03C-4C7E-9ED9-9BCC0C47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21E8A-4C89-4A56-A850-053314EF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933C1-DF3A-487C-A32A-3F4FBDAC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B3BD9-0A50-47A8-A49C-86367155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C34DD-664B-426E-B912-BEE25D76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16A8B-9EBD-4BC9-BED0-2E6D4944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F4EF-2084-4997-89D0-CE4CA490AE5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22B6-5A58-4352-9023-030BE541D52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1686-F09C-4037-B113-A8B7230861E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0B12-A556-4FB6-9CD4-5363F2C48A5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92C0-E565-4EE1-AF7B-A31F64EEB86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02E3-A799-4755-9D52-BA6C363EBEB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744B-FB3C-4E08-A97A-9FB5F0A76B8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FA13-5473-44B4-846D-C14BCE16C8F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41FF-94F9-4991-A7EC-443E05DC0AB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://highered.mcgraw-hill.com/sites/0072495855/student_view0/chapter2/animation__how_the_cell_cycle_work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The Cell Cycl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Mitosi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0" name="Content Placeholder 4" descr="Anaphase.jpg"/>
          <p:cNvPicPr/>
          <p:nvPr/>
        </p:nvPicPr>
        <p:blipFill>
          <a:blip r:embed="rId2"/>
          <a:stretch/>
        </p:blipFill>
        <p:spPr>
          <a:xfrm>
            <a:off x="152280" y="2362320"/>
            <a:ext cx="4864320" cy="28112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5181480" y="220932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ister chromatids separate into individual chromosomes and move towards opposite ends of the cell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3" name="Content Placeholder 4" descr="Telophase.jpg"/>
          <p:cNvPicPr/>
          <p:nvPr/>
        </p:nvPicPr>
        <p:blipFill>
          <a:blip r:embed="rId2"/>
          <a:stretch/>
        </p:blipFill>
        <p:spPr>
          <a:xfrm>
            <a:off x="152280" y="2438280"/>
            <a:ext cx="4584960" cy="2806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4952520" y="2209680"/>
            <a:ext cx="40388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Chromosomes gather at each end of the cell and lose their condensed shape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Two new nuclear membranes form – one around each group of chromosomes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6" name="Content Placeholder 4" descr="Daughter-Cells.jpg"/>
          <p:cNvPicPr/>
          <p:nvPr/>
        </p:nvPicPr>
        <p:blipFill>
          <a:blip r:embed="rId2"/>
          <a:stretch/>
        </p:blipFill>
        <p:spPr>
          <a:xfrm>
            <a:off x="304920" y="1447920"/>
            <a:ext cx="4800600" cy="21492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510516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cytoplasm pinches in half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ach daughter cell has an identical set of duplicate chromosom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 plant cells, a cell plate forms to separate the two daughter cell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TextBox 5"/>
          <p:cNvSpPr/>
          <p:nvPr/>
        </p:nvSpPr>
        <p:spPr>
          <a:xfrm>
            <a:off x="304920" y="3581280"/>
            <a:ext cx="4800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wo new “daughter cells – the cycle is about to repeat it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5" descr="plant cytokinesis.gif"/>
          <p:cNvPicPr/>
          <p:nvPr/>
        </p:nvPicPr>
        <p:blipFill>
          <a:blip r:embed="rId3"/>
          <a:srcRect l="0" t="0" r="0" b="23685"/>
          <a:stretch/>
        </p:blipFill>
        <p:spPr>
          <a:xfrm>
            <a:off x="304920" y="4495680"/>
            <a:ext cx="47242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4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3760"/>
            <a:ext cx="8686800" cy="20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at is the purpose of mitosi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scribe how a cell’s chromosomes change as the cell prepares to divid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Title 4" descr=""/>
          <p:cNvPicPr/>
          <p:nvPr/>
        </p:nvPicPr>
        <p:blipFill>
          <a:blip r:embed="rId2"/>
          <a:stretch/>
        </p:blipFill>
        <p:spPr>
          <a:xfrm>
            <a:off x="285840" y="349884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43" name="Content Placeholder 5"/>
          <p:cNvSpPr/>
          <p:nvPr/>
        </p:nvSpPr>
        <p:spPr>
          <a:xfrm>
            <a:off x="304920" y="4267080"/>
            <a:ext cx="86868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W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nersonlivingenvironment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Course Content: R &amp;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March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22400" y="450720"/>
            <a:ext cx="8875440" cy="1116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Biondi"/>
              </a:rPr>
              <a:t>Do Now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en a living thing grows, is it because their cells get larger or because it produces more cell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 most cases, living things grow by producing more cell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n average, the cells of an adult animal are the same size as those of a young animal – there is just more of the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NA “Overload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genetic information within a cell does not make copies as it increases in size, and the DNA becomes less able to fulfill its need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xchanging Material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rate at which a cell uses up food and oxygen and produces wastes depends on its volume, and the cell membrane becomes less able to handle the constant movement across it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12600" y="450720"/>
            <a:ext cx="9137880" cy="993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ellular Divis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process in which a cell divides into 2 “daughter” cell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gular body cells undergo </a:t>
            </a: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MITOSI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when they divide and produce new cell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0" y="182844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series of events that cells go through as they grow and divid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G1: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ell Growth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S: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DNA Replic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G2: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Mitosis Prep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: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Mitosis &amp; Cytokenesi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Content Placeholder 4" descr="Cell Cycle.jpg"/>
          <p:cNvPicPr/>
          <p:nvPr/>
        </p:nvPicPr>
        <p:blipFill>
          <a:blip r:embed="rId2"/>
          <a:stretch/>
        </p:blipFill>
        <p:spPr>
          <a:xfrm>
            <a:off x="4648320" y="1801800"/>
            <a:ext cx="4343400" cy="4321080"/>
          </a:xfrm>
          <a:prstGeom prst="rect">
            <a:avLst/>
          </a:prstGeom>
          <a:ln w="0">
            <a:noFill/>
          </a:ln>
        </p:spPr>
      </p:pic>
      <p:sp>
        <p:nvSpPr>
          <p:cNvPr id="417" name="TextBox 5"/>
          <p:cNvSpPr/>
          <p:nvPr/>
        </p:nvSpPr>
        <p:spPr>
          <a:xfrm>
            <a:off x="0" y="6324480"/>
            <a:ext cx="8991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highered.mcgraw-hill.com/sites/0072495855/student_view0/chapter2/animation__how_the_cell_cycle_works.html</a:t>
            </a:r>
            <a:r>
              <a:rPr b="0" lang="en-US" sz="13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9" name="Content Placeholder 5" descr="Prophase.jpg"/>
          <p:cNvPicPr/>
          <p:nvPr/>
        </p:nvPicPr>
        <p:blipFill>
          <a:blip r:embed="rId2"/>
          <a:stretch/>
        </p:blipFill>
        <p:spPr>
          <a:xfrm>
            <a:off x="304920" y="2678040"/>
            <a:ext cx="4190760" cy="25686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647960" y="16002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G1: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Cell growth occur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ell increases in size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ew proteins are synthesized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S: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New DNA is synthesized when chromosomes replicate themselv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G2: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Organelles and essential molecules are produced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2057400"/>
            <a:ext cx="86868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M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Phase of the cell cycl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ccurs in 2 stag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Mitosis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– division of the nucleu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Cytokinesis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– division of the cytoplas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4" name="Content Placeholder 4" descr="Prophase.jpg"/>
          <p:cNvPicPr/>
          <p:nvPr/>
        </p:nvPicPr>
        <p:blipFill>
          <a:blip r:embed="rId2"/>
          <a:stretch/>
        </p:blipFill>
        <p:spPr>
          <a:xfrm>
            <a:off x="304920" y="2057400"/>
            <a:ext cx="5079960" cy="3241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5486040" y="205740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hromatin condenses into chromosom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entrioles separate and spindle fibers start to for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uclear membrane disappear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7" name="Content Placeholder 4" descr="Metaphase.jpg"/>
          <p:cNvPicPr/>
          <p:nvPr/>
        </p:nvPicPr>
        <p:blipFill>
          <a:blip r:embed="rId2"/>
          <a:stretch/>
        </p:blipFill>
        <p:spPr>
          <a:xfrm>
            <a:off x="304920" y="2057400"/>
            <a:ext cx="4952880" cy="3301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5409720" y="2057400"/>
            <a:ext cx="3581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chromosomes line up at the center of the cell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ach chromosome is connected at to a spindle fiber at its centromer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22:59:10Z</dcterms:created>
  <dc:creator>Joy Finerson</dc:creator>
  <dc:description/>
  <dc:language>en-US</dc:language>
  <cp:lastModifiedBy>Joy Finerson</cp:lastModifiedBy>
  <dcterms:modified xsi:type="dcterms:W3CDTF">2010-02-26T16:06:39Z</dcterms:modified>
  <cp:revision>35</cp:revision>
  <dc:subject/>
  <dc:title>Cell Growth &amp; Division</dc:title>
</cp:coreProperties>
</file>