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DDE6-2F8A-4CB8-84DE-6EABE32F2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6CB0-E17C-4AD9-8D6E-4CE41412A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7F1B-0EDB-4ACD-824C-58CAB29FD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BCCB-BDD2-45D7-AD4A-C55D82402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C637-6025-4815-8FA2-EAF1F7BAD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D8CC-2383-43E1-AC22-651A654B5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17A0-EDF9-4802-81D5-D498ABBFE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D87D-2143-46EC-863B-987B1BA58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C376-CBCB-486C-811B-39C03733E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3192-BC54-4D77-AE7F-74C893F7E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932-3392-484F-9598-C5A5043ED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C668-37A9-43EA-B584-39D812A05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43F-E988-4BAD-BD7F-C74B44E48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BC8-A1C8-462D-A9B0-470AFCD16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0C3-6367-4232-976F-F8DECC47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6B1-5C7D-4796-9CF9-EC9DB28A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C8A22-98F1-42FA-82F4-15A9815E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B5493-26E1-4CE3-A40A-05B72FFB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D0A02-30F7-4B6B-9521-A6C4D247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CA85C-828D-4126-BB69-6774D38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6F515-4D20-4DF8-ACCE-DE8FE645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C011C-FF98-481D-8436-88503D5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CE11B-9016-4E2E-AF54-915021CE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D472E-1843-4948-BC0B-CE7D9292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A4BA8-DA92-402B-B1F2-2A1B8E0E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B47-38C1-4BCB-BD4F-41A2467C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01D-510F-4F5B-88A1-BE83B5D1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D509-B223-4CBD-A5CD-907EE679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0BD9-E04B-4E51-825B-E7D42254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8D0A-998F-4EFB-AC2F-78424777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CCAD-4FFC-4ABE-BD68-983D57E1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6387-D7B8-4EF5-803A-1C102468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D91D-394E-4ED6-8A19-F0346446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C031-BBB7-410C-9C8A-61C0C2B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458-E9AB-4418-8DC1-0E944948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8233-01FA-472D-8F75-A275FACC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D257-80E6-46BD-A14B-3193288A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7CE8-299A-40B8-97C2-819A4E63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C7B1-3451-4DBB-8C69-B74EE1AF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FF23-1A45-4567-AF01-308CDDFC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F3DA-A52E-4012-8A64-E687976D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50C3-6B2C-4388-9ADE-FE55EB90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3FFA-63E8-4E1B-83D1-5F9F1E0C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D4EC-ABA6-4115-B611-627646EC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1453-A043-4180-A3C5-1BDB05EE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313-D89A-49B1-AA2F-9AB5D4B5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2F53-2B5E-4BEA-9027-62113BEA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B3D1-6D1A-49C6-8070-1342379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525E-E354-4142-AA2E-BE5ABDB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1AFB-043C-4199-B968-BC3A891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C944-71B8-47E6-9D15-29C29116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7DF4-B7B2-489F-A39C-26B44D1B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FAC65-F688-42D7-AC73-81A2ADD0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99F4-70E8-4C68-A1FA-A83F161D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BDF9-3CEF-432B-8960-47D9DD71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7D763-64E2-41D7-BC85-AD2940A5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2BE-189D-45AF-A807-82E91F04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98D97-2109-490F-BCCE-3244E58A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E4BA-08DB-4D63-B858-0B5D8916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5684-8F6F-4188-9478-81DAC73E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B3D5-840B-4545-ADB4-43609421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7EF0-68E4-4CD5-B257-B4E37FD6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555C0-9C2C-4B84-9A73-2A9998A6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77C0-462D-439E-AA99-96A97361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D7E5-6B8E-4BBC-ABFE-B0B52BE2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4D703-237A-43F5-AF2C-2E9DAADE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F0F01-A25D-4CB0-B742-76344B8B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E63-15DC-496E-8269-7548DFA4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CC9C4-556F-421B-BE6C-1F6EDAA0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01D6-586D-49F1-9B67-6C75C2F5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EAAA-0903-4819-8232-D3ADD844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81A0-5348-4984-B422-F5D16692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9346F-A415-4952-B86E-EDD84141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96A1D-A17D-41D1-8228-EE31F2D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82F5-686B-4386-A067-2D723D15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5EAE1-187A-4404-BB0E-AD8F80A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6A85-D8E6-4E08-9F2B-E2D8E33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4B74B-35A3-4FA0-B38B-D5B038FF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E4B-24ED-456A-B467-010D3749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72A22-7EC4-4C8D-8DC2-3A6FB4D1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AAE34-589C-4E3A-B2CC-C07DFB37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E4627-7E5F-4427-883E-0B5C647D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359B9-3411-423C-9215-39FF931D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96913-B3A8-42DF-979A-B51098E9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540E-BFB8-485B-8C3C-AB5A0BDD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30ABB-799E-4653-9E20-6A6C0F45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66DE9-BA24-4630-BA93-B7B6CF2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19CE2-D6AD-4FAA-81C9-CCF708C9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99C9-82F7-45F1-A276-1171E5D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910-62A8-40B9-BE2D-6C3989FA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E5E5-2252-44D5-AD4B-0407D450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8B99B-88B4-49A1-AE4A-7CDBE7A3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0D1F3-6666-4D5A-969F-376734A2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D3DDA-206D-4EB5-A8A0-7FC68021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3F4A4-6B80-47B2-B0E4-39E8CD64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391E2-04DE-4001-903B-6300293E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21E0-3D9B-4822-8A54-B19790C2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600AB-E132-43AD-8B3C-DB4C1A23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71533-0D3B-4086-BD18-4DEA2614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3990-0D8E-4123-B7D6-9818E1E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177-4CC1-4DC0-81AD-980C6CE6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1C0BF-13C7-4988-B1D8-FBEF2BD1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65BF9-757E-44D4-9A7A-1A3E2DB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919B3-3109-463B-8ADD-2192ED36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BBFE7-9D00-4944-9B92-BB7FAB89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74076-5BB9-4262-9497-3EB4AA19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7EEB5-827B-432F-B618-8FC92346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84CB4-31DC-4437-BECF-2B39C2C1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62BEC-8102-49FD-AA3A-65FCCA9F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561A6-195F-4500-8ACF-42E9C88D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2512D-5288-4EAC-80B5-7D69CB1C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4B3-EFF5-4526-8B98-6D029FA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BE981-6CF5-426F-BDAD-8138D52A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95C06-7CFA-4D48-A587-8FEB5126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BF647-0DF3-498F-BBB1-1CB27532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C86F0-C237-48A2-A7FA-7FA2DC21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C6679-942D-43BF-8AB2-E8F55B06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F38E-6B06-4C06-8ACF-BB18EB9B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2BB2B-5229-4C3F-A0C6-BC3A22F7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9F9B7-5873-4B97-A340-AFB35383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8073F-7214-48BF-B987-54BFDE37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EEA12-8DAA-40EB-8FA9-046A8D0F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D4A9-F37B-4B59-9929-34CBFBBBEFB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E8EE-09E1-43D0-B20E-EFB908E09D6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3E46-598F-4AA3-B844-B87702D3F2C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61C-7D4A-4C57-9ED6-C66075A161D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7F8A-2A6C-430A-B9C0-66D36F335D1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2DE5-C463-4FE3-95AB-49B68B8566C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1958-9AC4-49D8-BAD7-62D78A99AC8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6A2A-590D-4F10-BE22-4B4B65103BD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3F74-2DC5-4B78-A7F4-03CE2095FF7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highered.mcgraw-hill.com/sites/0072495855/student_view0/chapter2/animation__how_the_cell_cycle_work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he Cell Cyc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Mito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Content Placeholder 4" descr="Anaphase.jpg"/>
          <p:cNvPicPr/>
          <p:nvPr/>
        </p:nvPicPr>
        <p:blipFill>
          <a:blip r:embed="rId2"/>
          <a:stretch/>
        </p:blipFill>
        <p:spPr>
          <a:xfrm>
            <a:off x="152280" y="2362320"/>
            <a:ext cx="4864320" cy="2811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181480" y="22093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ster chromatids separate into individual chromosomes and move towards opposite ends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4" descr="Telophase.jpg"/>
          <p:cNvPicPr/>
          <p:nvPr/>
        </p:nvPicPr>
        <p:blipFill>
          <a:blip r:embed="rId2"/>
          <a:stretch/>
        </p:blipFill>
        <p:spPr>
          <a:xfrm>
            <a:off x="152280" y="2438280"/>
            <a:ext cx="4584960" cy="280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952520" y="2209680"/>
            <a:ext cx="4038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hromosomes gather at each end of the cell and lose their condensed shape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Two new nuclear membranes form – one around each group of chromosome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6" name="Content Placeholder 4" descr="Daughter-Cells.jpg"/>
          <p:cNvPicPr/>
          <p:nvPr/>
        </p:nvPicPr>
        <p:blipFill>
          <a:blip r:embed="rId2"/>
          <a:stretch/>
        </p:blipFill>
        <p:spPr>
          <a:xfrm>
            <a:off x="304920" y="1447920"/>
            <a:ext cx="4800600" cy="2149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510516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ytoplasm pinches in half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daughter cell has an identical set of duplicate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plant cells, a cell plate forms to separate the two daughter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304920" y="358128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wo new “daughter cells – the cycle is about to repeat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5" descr="plant cytokinesis.gif"/>
          <p:cNvPicPr/>
          <p:nvPr/>
        </p:nvPicPr>
        <p:blipFill>
          <a:blip r:embed="rId3"/>
          <a:srcRect l="0" t="0" r="0" b="23685"/>
          <a:stretch/>
        </p:blipFill>
        <p:spPr>
          <a:xfrm>
            <a:off x="304920" y="4495680"/>
            <a:ext cx="47242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3760"/>
            <a:ext cx="86868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at is the purpose of mitos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scribe how a cell’s chromosomes change as the cell prepares to divid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Title 4" descr=""/>
          <p:cNvPicPr/>
          <p:nvPr/>
        </p:nvPicPr>
        <p:blipFill>
          <a:blip r:embed="rId2"/>
          <a:stretch/>
        </p:blipFill>
        <p:spPr>
          <a:xfrm>
            <a:off x="285840" y="349884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3" name="Content Placeholder 5"/>
          <p:cNvSpPr/>
          <p:nvPr/>
        </p:nvSpPr>
        <p:spPr>
          <a:xfrm>
            <a:off x="304920" y="4267080"/>
            <a:ext cx="86868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W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ersonlivingenvironmen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Course Content: R &amp;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March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22400" y="450720"/>
            <a:ext cx="8875440" cy="111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Biondi"/>
              </a:rPr>
              <a:t>Do Now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a living thing grows, is it because their cells get larger or because it produces more cell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most cases, living things grow by producing more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 average, the cells of an adult animal are the same size as those of a young animal – there is just more of th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NA “Overload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genetic information within a cell does not make copies as it increases in size, and the DNA becomes less able to fulfill its need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changing Materi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rate at which a cell uses up food and oxygen and produces wastes depends on its volume, and the cell membrane becomes less able to handle the constant movement across i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2600" y="450720"/>
            <a:ext cx="9137880" cy="993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ellular Divis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process in which a cell divides into 2 “daughter”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ular body cells undergo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MITOS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when they divide and produce new cel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0" y="182844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eries of events that cells go through as they grow and divid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1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Grow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DNA Replic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Pre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&amp; Cytokene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Content Placeholder 4" descr="Cell Cycle.jpg"/>
          <p:cNvPicPr/>
          <p:nvPr/>
        </p:nvPicPr>
        <p:blipFill>
          <a:blip r:embed="rId2"/>
          <a:stretch/>
        </p:blipFill>
        <p:spPr>
          <a:xfrm>
            <a:off x="4648320" y="1801800"/>
            <a:ext cx="4343400" cy="43210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0" y="6324480"/>
            <a:ext cx="8991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highered.mcgraw-hill.com/sites/0072495855/student_view0/chapter2/animation__how_the_cell_cycle_works.html</a:t>
            </a:r>
            <a:r>
              <a:rPr b="0" lang="en-US" sz="13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Content Placeholder 5" descr="Prophase.jpg"/>
          <p:cNvPicPr/>
          <p:nvPr/>
        </p:nvPicPr>
        <p:blipFill>
          <a:blip r:embed="rId2"/>
          <a:stretch/>
        </p:blipFill>
        <p:spPr>
          <a:xfrm>
            <a:off x="304920" y="2678040"/>
            <a:ext cx="4190760" cy="2568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6479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1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ell growth occu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increases in siz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w proteins are synthesize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New DNA is synthesized when chromosomes replicate themselv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Organelles and essential molecules are produc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2057400"/>
            <a:ext cx="8686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Phase of the cell cycl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ccurs in 2 stag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Mito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nucleu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ytokine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cytoplas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4" descr="Pro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507996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486040" y="20574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romatin condenses into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entrioles separate and spindle fibers start to for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uclear membrane disappea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Content Placeholder 4" descr="Meta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4952880" cy="3301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409720" y="2057400"/>
            <a:ext cx="358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hromosomes line up at the center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chromosome is connected at to a spindle fiber at its centromer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59:10Z</dcterms:created>
  <dc:creator>Joy Finerson</dc:creator>
  <dc:description/>
  <dc:language>en-US</dc:language>
  <cp:lastModifiedBy>Joy Finerson</cp:lastModifiedBy>
  <dcterms:modified xsi:type="dcterms:W3CDTF">2010-02-26T16:06:39Z</dcterms:modified>
  <cp:revision>35</cp:revision>
  <dc:subject/>
  <dc:title>Cell Growth &amp; Division</dc:title>
</cp:coreProperties>
</file>