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1CAE-D4ED-4E3E-A774-D828A3AEC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00D8-0274-4168-BB82-C6E2EE049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2E3D-9FD4-4614-86F5-F8671F6E5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C6C7-666A-4752-9C5E-E4004E141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8D87-CA81-415C-A5C1-5BD9A87A7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4BAE-D9BB-4407-B8B3-3876D2093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D926-3CE2-4258-8622-A8DA83BD9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C74-3819-4E21-B9C3-A83FFBF1E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0CA1-6562-4A40-95E0-4C9413F6C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5C16-B3F1-4117-8764-6EBA7C2EB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751C-5CC5-4930-8C27-0E1BB090C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10AB-AA62-446F-AEA5-E72DC0FEE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6754-6B62-4B15-A5E6-D00C99E55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AAB9-D8D7-4EC7-84D6-26B363C9E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B49-8C70-40FD-9B27-A72149D4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234-9BE0-4183-900D-32DE5DCE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C12BF-9779-46EB-996C-64E0C619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429D3-88B2-4AA3-AD5E-5AF74F55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AC5FD-55B6-4053-A908-608E23DB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457C3-9A48-41B4-85C3-7180EC76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D510F-6A05-4F8A-9789-BC3F2F90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2D379-248F-4C37-A36C-4D8523AA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6AB8A-8CEE-4D66-8724-601AB8AD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DF92D-80AE-4419-870C-DFBB56B3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BAD90-470B-4876-9D54-1DE54208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94F-D09C-4D19-8E7F-70466265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146-4780-4668-B3E5-BA820FB9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F167-0C76-4915-AAC6-565DB92E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BADA-1854-462C-8088-3F3DC488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3C33-FCF1-406D-8BE6-6BD7C70B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055F-1CF9-494E-9645-A6C6F9E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D98A-3025-449A-A029-0F180973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8359-D8FE-478C-9C6F-6B9DAD78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3D96-15A8-4D3F-A8F6-17692B98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619-FBB7-4327-ADFC-FE418A44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E420-9C04-4805-97FB-3DCF31EC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2A10-339C-4DDA-BF9A-AC141FF6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031C-AA8B-4EA6-8DCB-170958E0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300B-3921-4580-AB02-A438594E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6200-7480-481E-8D3D-B3D24E5C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792E5-AC45-43DB-A88E-1F33F867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0F01-95DC-492B-AEEE-E150BA70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DF33-AFCB-4666-8D79-E2CBEE1B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D496A-48CF-4F86-B6D5-2243D08E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C92C-E1BD-4A90-9D19-F4B0803D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BEA-AB1E-4966-8F8B-2A519BBB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FD06-D14A-418E-821A-8A120BA5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990D-2ED6-42CB-AA73-CC977BE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AEBE-3A8C-4E7C-8D8A-F88FEB40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89DE-9B90-4039-9D72-9B20228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0BB7-D2AA-44EF-90A9-7AC2C91E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7472-89C5-42B4-8D23-CEFD9404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D6947-8983-4DF7-9043-14FFE0F0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F6C81-0F8A-477A-A01F-8864A5D3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96CDC-AEC1-4673-9B96-1AE0E3C1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B76D-17DF-4781-A5A5-3DDA26E4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54D-4FB5-413D-8416-46597B31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D119-828D-4859-9517-C75EA395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68B2D-1DCA-49B7-BB88-D04A8AB5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8FA4B-7B73-42F3-B744-BC85EBA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FC74-5832-45BB-9CF6-AF45C64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94B2C-6974-4334-8ACA-6D9E6210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57C70-293D-40D2-BC33-93C151E4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D3DA-00AD-49B3-B1C3-3481F098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A3777-EF9C-4356-BE7D-0C21733E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7B31B-4E3E-4840-B5D0-1E759E19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8205-BF57-4A77-B3D9-D60FBA11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1AB-9D3C-4058-8401-75B6693A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87124-23F0-4441-A173-C59B3E11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E8678-0B04-4784-8F92-C18DB4C8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49192-9547-487B-9255-B61955CF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74963-904A-4AA2-938A-8C100B24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A91DC-1D21-495C-B18D-4183F040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6386D-1BC5-46F9-876D-5DC1AA39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6151-31BE-4999-8F61-036D60B3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E92A7-D461-4DD4-ADE4-864B2804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7E0BA-2820-4F73-B531-B10A8F0A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27860-D59E-4EDE-96F9-07A04AEB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61A-26A0-4370-BAA8-CB917AD8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298A4-8FC1-4018-917B-A1B7C181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24CB8-70B8-42B0-BC3D-6D480F3B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25DCE-B476-42A6-BA17-AFB3DECC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F6FA9-C930-4E20-8890-267EF72C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F800-D918-4B8B-9449-EB9735DF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F6259-27E6-44F9-9AD1-94E2FF27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1CA9-E1D7-4267-BA51-AC056E9C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DA605-7A6B-4ADF-BE8D-B3F66F92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D1553-8289-4104-A424-4DEF19B4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D9603-4EB9-4D44-A58E-8204AB14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BE7-CAEC-48E3-A056-A5C870F2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86CDC-594A-4411-B9CE-FDA60966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47889-956A-4C85-8934-7005F77F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5E343-B847-42F4-85F4-B8472D11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479E4-69FC-44CA-949F-7D13FDD7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45D67-C0D6-4A5A-8BF8-07A94FC4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0503E-C6E5-4625-8487-A6E866A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27C38-1ED4-4D34-81CB-B1E59E26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E45B7-C3FF-4381-914B-BD45ADD0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9B3D4-360E-4943-997A-44FCAA31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694F9-8001-4612-967B-5A468470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5D1-8154-44B4-AB6A-A176E50E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98700-2B20-402B-8B8C-0E389FE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0538E-86A8-4BC2-9E4A-5AA12E57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4531E-0BF2-44D6-AA6A-2A6B3051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26828-9AF2-4DBB-BCC5-E0211BA6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1859A-05EE-4656-A172-792D28B7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BB137-F4B3-4F07-9E51-FDDEB004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A76A5-8AFF-4B9F-827D-60C36534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454A0-5C1D-4AC2-BB64-6A4274E8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E4B1E-C3A9-479E-BA80-F6EE1A27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E67B0-A3FA-4B10-BE82-1719B7D1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6EB-A189-4B97-ADC5-7950F761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F426E-4065-4A57-AC5E-287BC754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CADD9-9880-4249-8031-4A5E49DD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54D86-F75E-47AA-82A7-1B169E39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AF607-8D52-4C3E-8641-C2FC443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BF692-35EC-4F2E-9521-AD2F3ABA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15FF8-C7CD-46FC-BFD2-5EE0C378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40E9D-CF0C-47CE-9BDA-71509532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2076D-0EF8-464A-88D2-99363056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BA07F-0B8D-4D55-B105-915FB954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1C82E-9845-40A5-8529-940D7C15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E624-3C59-4465-A478-838A4B6388C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FE9D-ACD0-474A-A0E5-8A380BECB6C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9614-CC02-4AAF-B0AB-602A249E58B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DED1-B1F0-4D73-84AE-E784B71467B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33A2-1030-4ADE-A7D0-B9C33A2FFBF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D1CD-768E-40CB-B9C0-B9B73B2A0CE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7320-DC06-425B-856F-DE8CDF37449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40A3-2DBA-4E0B-98EC-FB9CB61835B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F29F-9459-4301-88D1-A4BF2127E94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highered.mcgraw-hill.com/sites/0072495855/student_view0/chapter2/animation__how_the_cell_cycle_work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he Cell Cyc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Mito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Content Placeholder 4" descr="Anaphase.jpg"/>
          <p:cNvPicPr/>
          <p:nvPr/>
        </p:nvPicPr>
        <p:blipFill>
          <a:blip r:embed="rId2"/>
          <a:stretch/>
        </p:blipFill>
        <p:spPr>
          <a:xfrm>
            <a:off x="152280" y="2362320"/>
            <a:ext cx="4864320" cy="2811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5181480" y="220932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ister chromatids separate into individual chromosomes and move towards opposite ends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4" descr="Telophase.jpg"/>
          <p:cNvPicPr/>
          <p:nvPr/>
        </p:nvPicPr>
        <p:blipFill>
          <a:blip r:embed="rId2"/>
          <a:stretch/>
        </p:blipFill>
        <p:spPr>
          <a:xfrm>
            <a:off x="152280" y="2438280"/>
            <a:ext cx="4584960" cy="280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952520" y="2209680"/>
            <a:ext cx="40388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Chromosomes gather at each end of the cell and lose their condensed shape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Two new nuclear membranes form – one around each group of chromosome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6" name="Content Placeholder 4" descr="Daughter-Cells.jpg"/>
          <p:cNvPicPr/>
          <p:nvPr/>
        </p:nvPicPr>
        <p:blipFill>
          <a:blip r:embed="rId2"/>
          <a:stretch/>
        </p:blipFill>
        <p:spPr>
          <a:xfrm>
            <a:off x="304920" y="1447920"/>
            <a:ext cx="4800600" cy="2149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510516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ytoplasm pinches in half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daughter cell has an identical set of duplicate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plant cells, a cell plate forms to separate the two daughter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304920" y="358128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wo new “daughter cells – the cycle is about to repeat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5" descr="plant cytokinesis.gif"/>
          <p:cNvPicPr/>
          <p:nvPr/>
        </p:nvPicPr>
        <p:blipFill>
          <a:blip r:embed="rId3"/>
          <a:srcRect l="0" t="0" r="0" b="23685"/>
          <a:stretch/>
        </p:blipFill>
        <p:spPr>
          <a:xfrm>
            <a:off x="304920" y="4495680"/>
            <a:ext cx="47242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4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3760"/>
            <a:ext cx="86868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at is the purpose of mitos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scribe how a cell’s chromosomes change as the cell prepares to divid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Title 4" descr=""/>
          <p:cNvPicPr/>
          <p:nvPr/>
        </p:nvPicPr>
        <p:blipFill>
          <a:blip r:embed="rId2"/>
          <a:stretch/>
        </p:blipFill>
        <p:spPr>
          <a:xfrm>
            <a:off x="285840" y="349884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3" name="Content Placeholder 5"/>
          <p:cNvSpPr/>
          <p:nvPr/>
        </p:nvSpPr>
        <p:spPr>
          <a:xfrm>
            <a:off x="304920" y="4267080"/>
            <a:ext cx="86868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W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ersonlivingenvironmen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Course Content: R &amp;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March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22400" y="450720"/>
            <a:ext cx="8875440" cy="1116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Biondi"/>
              </a:rPr>
              <a:t>Do Now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a living thing grows, is it because their cells get larger or because it produces more cell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most cases, living things grow by producing more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 average, the cells of an adult animal are the same size as those of a young animal – there is just more of the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NA “Overload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genetic information within a cell does not make copies as it increases in size, and the DNA becomes less able to fulfill its need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changing Materia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rate at which a cell uses up food and oxygen and produces wastes depends on its volume, and the cell membrane becomes less able to handle the constant movement across i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2600" y="450720"/>
            <a:ext cx="9137880" cy="993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ellular Divis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process in which a cell divides into 2 “daughter”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ular body cells undergo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MITOS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when they divide and produce new cell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0" y="182844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series of events that cells go through as they grow and divid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1: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Growt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DNA Replic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Prep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&amp; Cytokene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Content Placeholder 4" descr="Cell Cycle.jpg"/>
          <p:cNvPicPr/>
          <p:nvPr/>
        </p:nvPicPr>
        <p:blipFill>
          <a:blip r:embed="rId2"/>
          <a:stretch/>
        </p:blipFill>
        <p:spPr>
          <a:xfrm>
            <a:off x="4648320" y="1801800"/>
            <a:ext cx="4343400" cy="43210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0" y="6324480"/>
            <a:ext cx="8991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highered.mcgraw-hill.com/sites/0072495855/student_view0/chapter2/animation__how_the_cell_cycle_works.html</a:t>
            </a:r>
            <a:r>
              <a:rPr b="0" lang="en-US" sz="13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Content Placeholder 5" descr="Prophase.jpg"/>
          <p:cNvPicPr/>
          <p:nvPr/>
        </p:nvPicPr>
        <p:blipFill>
          <a:blip r:embed="rId2"/>
          <a:stretch/>
        </p:blipFill>
        <p:spPr>
          <a:xfrm>
            <a:off x="304920" y="2678040"/>
            <a:ext cx="4190760" cy="2568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6479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1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ell growth occu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increases in siz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w proteins are synthesized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New DNA is synthesized when chromosomes replicate themselv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Organelles and essential molecules are produc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2057400"/>
            <a:ext cx="8686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Phase of the cell cycl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ccurs in 2 stag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Mito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nucleu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Cytokine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cytoplas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4" descr="Pro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507996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486040" y="205740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romatin condenses into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entrioles separate and spindle fibers start to for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uclear membrane disappea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Content Placeholder 4" descr="Meta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4952880" cy="3301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409720" y="2057400"/>
            <a:ext cx="3581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hromosomes line up at the center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chromosome is connected at to a spindle fiber at its centromer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22:59:10Z</dcterms:created>
  <dc:creator>Joy Finerson</dc:creator>
  <dc:description/>
  <dc:language>en-US</dc:language>
  <cp:lastModifiedBy>Joy Finerson</cp:lastModifiedBy>
  <dcterms:modified xsi:type="dcterms:W3CDTF">2010-02-26T16:06:39Z</dcterms:modified>
  <cp:revision>35</cp:revision>
  <dc:subject/>
  <dc:title>Cell Growth &amp; Division</dc:title>
</cp:coreProperties>
</file>