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45F5-0C65-4B79-8E79-4A3EAB3AE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2A8C-C1F7-4699-A874-ACC6D7281C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B075-275E-42A1-AF65-3375B55352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496A-E227-4F2A-B58A-0D8D7E7408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31D0-DC86-48C1-9386-A71D7FE227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9979-F399-4777-8632-9F1474E901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E8E-373F-41BC-8843-732B65775F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A9D6-CE24-41F5-A7EC-70A4180752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9EC6-EE8C-4485-B09D-4492F34FB5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4766-01ED-4555-B0A1-32F867D581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25DC-58FB-4065-9242-879BD66007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4AF2-34AB-49B3-BA4F-66FC879DC2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069-F5AA-4E72-AF2E-55474840EF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84FC-32BF-46BA-9C65-FAB8B54D19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058A-1FBE-402D-8972-696E489697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9B6F-5D7B-427D-AAA8-5162BD4C07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4817-506E-4AC6-8C06-024887691C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398F-10CE-420A-8EE7-6334AE1F6A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904F-11EA-4B6D-8422-8C03A4B468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11EF-91FC-445F-AF93-12E70AFC19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C82-83E7-4FFC-9494-7CAA5817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4B0-2919-4D9C-B5D2-54628D21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913-667B-46E3-A2C2-B8561C26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952-32D1-49C8-B849-A20A0554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1791-72BE-4D7F-AF3C-A565117B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EE93-1D34-498D-AAEE-2E737A69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7886-2B56-46E5-BE3C-DAC6C012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5402-BA24-41DE-A6BF-C0B1062A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B7B9-A1A8-4C3B-A9D5-70CCE4AA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9229-9F7C-4984-A472-1C995261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1398-7E21-4A51-967B-9FD211A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A66-9558-4E1F-B375-288A1C12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243E-2401-4FE9-97C0-14C20975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C489-D35C-4B81-B4FC-41521307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70DF-B9FB-4413-83D6-85C2CA1E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88D1-D84B-4235-BEF0-B7400569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34B4-09CC-4BAB-B977-D74C817C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05CE-3E03-432B-AEC3-51262A7A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FFAEC-2F90-409A-8BD0-62598E9A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26CD-AE7C-4B48-BD04-D9CA128C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CBD2-0759-4BE4-9A33-EC964DBB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9351-EA93-4721-9A29-338C5A47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176-A13D-4C18-9784-7FDC5A29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CF093-A3AB-4246-AE61-A91484CB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711B-796E-4418-8209-CAB60B28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3C81-A3BE-4638-BA58-1D34A2DA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7E47-8783-41B7-A477-7C28DBB5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F7E4-6871-4501-AFEA-FE3DAF09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CD18-8C00-4F72-BF9D-AC5E7E5F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9526-DD41-4EF4-A4A9-16EB5AB7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9DEA-19D7-42A3-B14B-9AEC8846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3673A-0338-46B8-B14E-10F0B40B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AE89-75C9-45BF-BE8C-C08AEB9E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60A-95C8-4962-B932-4964F5C1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8E62-8078-490D-B36A-375216F4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239D-E69C-4C74-B289-35A23B33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0D92D-3FEA-405B-AF3B-633B50CB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2698B-B395-4093-B1E4-9930780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8FE4-8183-4FAD-8975-3BCC1A80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CFB39-C35E-410F-8D5D-532E0EF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6C02-2A5E-4FC2-A10C-5C2C9B3A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A30A-4E5C-4F63-B3F3-E61DA2B8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59A7-9EBD-460B-9C8A-519386C9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F0F3-A9A3-47D3-ADFB-1A812004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244-37D6-4B5A-B60B-D8E24EDC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412E-BB18-4A94-B8D4-2C77D3A5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2D6C-9D91-4431-B16D-74048A95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FC507-DFBD-4FD5-BC4B-C656097B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CFB5-CB72-4BF2-8E95-A97659E9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3AAB1-C96C-4C0D-9CE6-B0C9B550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EF71-72D7-4A55-8EAC-AA148AE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8B7B2-DAB0-4D25-A740-4545EEFA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0FFD8-785A-43BC-A763-C013B831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DDC4B-913E-4B83-B8BF-C3B7FD39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20E13-A6E1-4D44-972C-A53DB476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3E2-354E-480F-AD3F-BD5AC683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056B9-269E-42B9-9B78-3BAFC645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4029C-CF0F-494C-B546-A10D204C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CFD7-CCE7-4DCD-85C4-D04B61AE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2A2F3-25CB-4D45-AF10-CB47C074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A66FF-CB86-44BB-A84A-A8A47324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FAE42-5F82-4E55-A8D5-0C2F906F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9DD61-9930-4B2E-B7A1-FCFC9439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1C656-5956-4AB3-8AA6-D4D0B4A3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7CDA-6076-4E99-9374-7DD99ED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EC72D-CB95-482A-B64C-B30FF9D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2AB-8610-47BB-AAE8-CDEC2E54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8471A-A7FF-4658-9128-288BA04B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B45C6-CEE7-4ECE-B65B-4BD264A5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719EC-8DC4-44C8-AD05-5A65EE49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62F-7C2C-4C8C-90BD-439C482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46F-991F-4946-AE85-F2416A9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EBD-7059-4F0F-9C73-9E637ABDDB2F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6911-CE47-4C57-9A80-5DB07E01F8B1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C24B-D696-481B-9C59-D2EC2F868DE2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BE5-38CE-43CB-A941-B4208655AB40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41BD-8DDB-46BC-956A-0E23AAF32CB7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B3F-14D8-4609-B508-CA98D08A4FF7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highered.mcgraw-hill.com/sites/0072495855/student_view0/chapter2/animation__comparison_of_meiosis_and_mitosis__quiz_1_.html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658800" y="3895560"/>
            <a:ext cx="7978680" cy="1140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857160" y="514368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10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sexual vs. Sexual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ios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87692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NA replicates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2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hook up into homologous pairs and form tetrad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ossing over may occu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Content Placeholder 4" descr="Meiosis 1.gif"/>
          <p:cNvPicPr/>
          <p:nvPr/>
        </p:nvPicPr>
        <p:blipFill>
          <a:blip r:embed="rId2"/>
          <a:srcRect l="0" t="4545" r="51251" b="0"/>
          <a:stretch/>
        </p:blipFill>
        <p:spPr>
          <a:xfrm>
            <a:off x="152280" y="1143000"/>
            <a:ext cx="4654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4" descr="Homologous 2.jpg"/>
          <p:cNvPicPr/>
          <p:nvPr/>
        </p:nvPicPr>
        <p:blipFill>
          <a:blip r:embed="rId2"/>
          <a:stretch/>
        </p:blipFill>
        <p:spPr>
          <a:xfrm>
            <a:off x="826920" y="2008080"/>
            <a:ext cx="3314880" cy="4048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65624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that both contain genetic information for the same biological trai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e set is from the female parent, and the other set from the male parent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iosis I separates these chromosome pai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4" descr="Homologous 1.gif"/>
          <p:cNvPicPr/>
          <p:nvPr/>
        </p:nvPicPr>
        <p:blipFill>
          <a:blip r:embed="rId2"/>
          <a:stretch/>
        </p:blipFill>
        <p:spPr>
          <a:xfrm>
            <a:off x="546120" y="1447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homologous chromosomes pair up they form a tetra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times the 2 closest chromatids within the tetrad exchange whole sections of genetic informa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4" descr="Meiosis 1.gif"/>
          <p:cNvPicPr/>
          <p:nvPr/>
        </p:nvPicPr>
        <p:blipFill>
          <a:blip r:embed="rId2"/>
          <a:srcRect l="48866" t="0" r="24724" b="0"/>
          <a:stretch/>
        </p:blipFill>
        <p:spPr>
          <a:xfrm>
            <a:off x="762120" y="1447920"/>
            <a:ext cx="2971800" cy="5064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656240" y="1769760"/>
            <a:ext cx="403848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Met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etrads line up along the center of the cel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4" descr="Meiosis 1.gif"/>
          <p:cNvPicPr/>
          <p:nvPr/>
        </p:nvPicPr>
        <p:blipFill>
          <a:blip r:embed="rId2"/>
          <a:srcRect l="75281" t="0" r="0" b="0"/>
          <a:stretch/>
        </p:blipFill>
        <p:spPr>
          <a:xfrm>
            <a:off x="838080" y="1447920"/>
            <a:ext cx="2743200" cy="5194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56240" y="1769760"/>
            <a:ext cx="403848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n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mologous pairs split up and move to opposite ends of the cel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962520" y="12949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lophase I &amp; Cytokine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parent cell divides into 2 haploid (N) daughter cells, each with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2 resulting daughter cells go directly into Prophase I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NO INTERPHASE II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Content Placeholder 6" descr="Meiosis 2.gif"/>
          <p:cNvPicPr/>
          <p:nvPr/>
        </p:nvPicPr>
        <p:blipFill>
          <a:blip r:embed="rId2"/>
          <a:srcRect l="0" t="0" r="61802" b="0"/>
          <a:stretch/>
        </p:blipFill>
        <p:spPr>
          <a:xfrm>
            <a:off x="257040" y="1295280"/>
            <a:ext cx="3629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474040" cy="1042920"/>
          </a:xfrm>
          <a:prstGeom prst="rect">
            <a:avLst/>
          </a:prstGeom>
          <a:ln w="0">
            <a:noFill/>
          </a:ln>
        </p:spPr>
      </p:pic>
      <p:pic>
        <p:nvPicPr>
          <p:cNvPr id="329" name="Content Placeholder 4" descr="Meiosis 2.gif"/>
          <p:cNvPicPr/>
          <p:nvPr/>
        </p:nvPicPr>
        <p:blipFill>
          <a:blip r:embed="rId2"/>
          <a:srcRect l="21470" t="0" r="0" b="0"/>
          <a:stretch/>
        </p:blipFill>
        <p:spPr>
          <a:xfrm>
            <a:off x="228600" y="1371600"/>
            <a:ext cx="5332320" cy="4495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943240" y="1770120"/>
            <a:ext cx="30481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l phases of meiosis II occur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ach of the 2 cells produced from meiosis I divide, resulting in 4 daughter cells tot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4" descr=""/>
          <p:cNvPicPr/>
          <p:nvPr/>
        </p:nvPicPr>
        <p:blipFill>
          <a:blip r:embed="rId1"/>
          <a:stretch/>
        </p:blipFill>
        <p:spPr>
          <a:xfrm>
            <a:off x="682560" y="244440"/>
            <a:ext cx="2536920" cy="1614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3429000" cy="18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highered.mcgraw-hill.com/sites/0072495855/student_view0/chapter2/animation__comparison_of_meiosis_and_mitosis__quiz_1_.html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3" name="Content Placeholder 6" descr="MitosisvMeiosis 1.gif"/>
          <p:cNvPicPr/>
          <p:nvPr/>
        </p:nvPicPr>
        <p:blipFill>
          <a:blip r:embed="rId3"/>
          <a:stretch/>
        </p:blipFill>
        <p:spPr>
          <a:xfrm>
            <a:off x="4205160" y="365040"/>
            <a:ext cx="448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Meiosis.jpg"/>
          <p:cNvPicPr/>
          <p:nvPr/>
        </p:nvPicPr>
        <p:blipFill>
          <a:blip r:embed="rId2"/>
          <a:stretch/>
        </p:blipFill>
        <p:spPr>
          <a:xfrm>
            <a:off x="152280" y="1447920"/>
            <a:ext cx="4542120" cy="5275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876920" y="1770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rmation of gametes (sex cells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males, 4 sperm cell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females, 1 egg cell (ovum) and 3 polar bodie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4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ito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8288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body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2 diploid (2N) daughter cells 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the full number of chromosomes (an exact copy of the parent cell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7960" y="182880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sex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4 haploid (N) daughter cell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A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981080"/>
            <a:ext cx="404028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one par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are genetically identical to that paren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 f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ellular division (mitosi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udd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genera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res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on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1981080"/>
            <a:ext cx="404172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2 par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have some genetic information (DNA) from each parent that recombines to form a genetically unique individua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7" descr=""/>
          <p:cNvPicPr/>
          <p:nvPr/>
        </p:nvPicPr>
        <p:blipFill>
          <a:blip r:embed="rId1"/>
          <a:stretch/>
        </p:blipFill>
        <p:spPr>
          <a:xfrm>
            <a:off x="828720" y="4937040"/>
            <a:ext cx="6950160" cy="714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Placeholder 11" descr="Amoeba Dividing.jpg"/>
          <p:cNvPicPr/>
          <p:nvPr/>
        </p:nvPicPr>
        <p:blipFill>
          <a:blip r:embed="rId2"/>
          <a:srcRect l="6649" t="0" r="6649" b="0"/>
          <a:stretch/>
        </p:blipFill>
        <p:spPr>
          <a:xfrm>
            <a:off x="914400" y="357120"/>
            <a:ext cx="6858000" cy="42861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914400" y="5643720"/>
            <a:ext cx="76960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rbel"/>
              </a:rPr>
              <a:t>Cellular Division: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parent cell divides into 2 daughter cell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5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1434960"/>
            <a:ext cx="3353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Budd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 produces an outgrowth (bud) of the body that later detaches into an individ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6" name="Picture Placeholder 4" descr="hydra budding.jpg"/>
          <p:cNvPicPr/>
          <p:nvPr/>
        </p:nvPicPr>
        <p:blipFill>
          <a:blip r:embed="rId2"/>
          <a:stretch/>
        </p:blipFill>
        <p:spPr>
          <a:xfrm>
            <a:off x="4038480" y="528480"/>
            <a:ext cx="457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1434960"/>
            <a:ext cx="312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generation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n organism develops from detached portions of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9" name="Picture Placeholder 7" descr="Planera Regeneration.jpg"/>
          <p:cNvPicPr/>
          <p:nvPr/>
        </p:nvPicPr>
        <p:blipFill>
          <a:blip r:embed="rId2"/>
          <a:stretch/>
        </p:blipFill>
        <p:spPr>
          <a:xfrm>
            <a:off x="3581280" y="609480"/>
            <a:ext cx="5243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43496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Spores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s develop from special cells produced by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2" name="Picture Placeholder 7" descr="Spore Reproduction.jpg"/>
          <p:cNvPicPr/>
          <p:nvPr/>
        </p:nvPicPr>
        <p:blipFill>
          <a:blip r:embed="rId2"/>
          <a:stretch/>
        </p:blipFill>
        <p:spPr>
          <a:xfrm>
            <a:off x="3505320" y="533520"/>
            <a:ext cx="5181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440" y="1434960"/>
            <a:ext cx="25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Clon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 biotechnology technique in which offspring are genetic copies of the par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Content Placeholder 4" descr="Dolly the Sheep.jpg"/>
          <p:cNvPicPr/>
          <p:nvPr/>
        </p:nvPicPr>
        <p:blipFill>
          <a:blip r:embed="rId2"/>
          <a:stretch/>
        </p:blipFill>
        <p:spPr>
          <a:xfrm>
            <a:off x="3505320" y="838080"/>
            <a:ext cx="5172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4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ffspring receive half of their genetic information from one parent and half from the other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nes are carried on the chromosomes of sex cells – also called gamet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les = sp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emales = ovum (egg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ccurs only in gametes (sex cell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 sets of cell division involv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 daughter cells produc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ch daughter cell has half the chromosomes of the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34:08Z</dcterms:created>
  <dc:creator>Joy Finerson</dc:creator>
  <dc:description/>
  <dc:language>en-US</dc:language>
  <cp:lastModifiedBy>Joy Finerson</cp:lastModifiedBy>
  <dcterms:modified xsi:type="dcterms:W3CDTF">2010-03-05T17:14:31Z</dcterms:modified>
  <cp:revision>51</cp:revision>
  <dc:subject/>
  <dc:title>Slide 1</dc:title>
</cp:coreProperties>
</file>