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417D-BCB1-44E6-8707-4CA453759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6E1E-FF14-4640-9723-4120E5E7C2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27C5-2961-4D0F-B82B-EA0EDCB646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A7CC-0C9F-45B0-B852-3070777444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7B69-F36C-4A36-83DC-FE5549B7A0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9B07-86CF-4078-A6EF-41772E6FD4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CE59-E306-41E1-8810-83AC1C8343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C47E-8D13-42DA-AE74-A48BF0FEE4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F077-2085-49FF-A8A9-9305A14840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8281-45FF-4111-97C0-A445F4E166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A42E-DEFD-46D1-800F-9AD7238D6A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6C0E-5CFC-4E64-AF20-7743785BE9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F8D1-C419-4CA5-9036-BD5E8217C3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913C-5CDE-4855-8192-5218CD3CEC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5887-EA08-4F84-8DF2-93D10BB79A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313D-5462-456A-A302-DC785BA572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B818-6714-4B05-A02C-E0BFF62F76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C0F4-463F-4B0C-881A-A8AFA573CD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F578-B49E-4E90-9A42-2BF7EF2AE5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A3A9-E975-41BF-8A44-3A78057B6F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A6B-9593-48A3-A5B3-3E51ADD3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B2C-F893-45CA-B168-52AF6F8B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10B-F956-439C-8426-C7676C15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F97-4E4C-4859-953C-721D980E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8C64-1831-44C8-95DC-DAA7F753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0FF1-1716-4067-9DE2-28AD90D2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73D2-BEAF-4FEE-9CA9-F4DFFB13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B124-E527-4128-A259-99D50298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03A2-0E75-4180-B99C-7FDACC87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3042-A1E5-43CC-B264-7090DCB8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F7D5-59C3-4A31-891B-F7A82387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42E-9A1C-48A7-9BE0-04900EBF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FEAF-D028-4568-8844-719199C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FFC4-CD05-4491-843D-7818F283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8E40-0ED3-46F8-AAF4-A40B24CE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4F2D-3D96-4BF8-8831-E8F96FF0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74CA-9B67-4214-AF90-D588BA2E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BAF4-1AED-448B-8B36-20C0CB37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9595-796A-4310-9C01-C90BE1FD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DD75-E919-452E-B2B0-6D90E14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F8E4-C5EB-4A90-A3DE-8BDEB07B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12D36-439A-44E9-A7A7-49CE6C87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EBF-9DC7-475A-A248-862A8F0C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7A1F-7EED-4007-B5CF-52166D11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0C14-5CC7-4988-A174-443DDA5D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3E33-066E-49AA-91D6-33C54A89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1A38-0525-459D-BE07-42D756A1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ACC1-06C8-47A0-9E88-999F6735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EA24-A4F3-48B4-BDA3-72EFA02B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26DB-9884-4AA5-B934-0C917E76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F38A2-6266-406C-8FB0-295A802A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CEFA3-F51B-445C-B98E-A4C1AE75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30C0B-0079-4E49-AA7E-96C8E510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A21-44B5-4070-B4AD-F9EB8BE8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1CF69-24E4-4689-B1E8-4B39B13E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30BE-7BC2-477D-AAA6-09CDD336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2968-19B4-4D1D-8376-37037A1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344AD-2F4E-4F6C-882C-8FBD183D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A4B25-201D-4586-83AD-834CCC0E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B3BEE-66F9-490B-B902-67DD5219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41A3-846C-4F64-904C-AC7AA255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191C-BB53-41B1-8171-C61F0F18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8255B-D2D3-4134-B09E-5C4E4531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2E1AD-A13C-4F68-89B8-F687D3A6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98E-3267-4204-A349-D4F56FF5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BA3D7-F043-4CE6-921D-9C45D397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4C8D9-317E-4F7D-B242-33B9CAD9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8B346-98C2-4361-A49C-07533DE4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81710-2DB7-4375-8C2D-D188B55D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5C668-205C-4518-8B6D-5EC0E8DD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4C807-8022-4E42-AC4A-2EE437E4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B5B85-2B41-492E-AF8C-D2FC20C2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59266-4BD9-43EF-B5EA-5CB41E2C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6067-40C8-43AC-AE92-54A62A3F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62375-8913-4EAD-90D0-1BABA985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D89-6390-4AE9-970F-56B1863D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F3173-910C-4386-9C98-50F1AEFC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A904-A305-4111-8CA6-604A57A7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067B7-3326-4997-BE2C-3870F1FD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A44BF-07EA-428D-A462-693C19F8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17E25-E35A-4998-AE93-1801BECA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720FA-D9A5-4009-AB42-4AD3A4FF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4A1D5-E53C-4CD1-B47F-9837851D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92AC2-C588-41C9-847B-9F5C4E16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01E7B-B256-4A59-92BF-4E276878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D1553-E2E6-4BC4-8BFF-4F773973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2AE-43CC-4585-A5D3-C77E9981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BC992-3798-464E-87A9-6F8BAAFE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9496-5D91-4DE4-BF4C-BB78CAC1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F14CE-2FB5-4864-AE98-660C3624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B75-7DDB-40DC-A690-ED7C7386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E1F-E33E-42DE-9C84-83D1F9A6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100B-F669-483C-B569-D753153973E5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8429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7286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7286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7572240" y="2786040"/>
            <a:ext cx="21456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7572240" y="3357720"/>
            <a:ext cx="21456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85808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785808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8429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814392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814392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572240" y="3071880"/>
            <a:ext cx="21456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785808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8429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814392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7286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DAAC-0ABD-416C-985C-A9CE04EF55DB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714240" y="5276880"/>
            <a:ext cx="7500960" cy="1440"/>
          </a:xfrm>
          <a:prstGeom prst="line">
            <a:avLst/>
          </a:prstGeom>
          <a:ln w="9360">
            <a:solidFill>
              <a:srgbClr val="fff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26CD-2F3F-4AC5-A645-22426ACD7D16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5126-85DA-4AD0-BCBE-A8519682FBD3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0188-78BC-4731-8A46-2F50BBADCFC5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F1A7-AB86-468B-AA25-B1A69CA7924F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highered.mcgraw-hill.com/sites/0072495855/student_view0/chapter2/animation__comparison_of_meiosis_and_mitosis__quiz_1_.html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658800" y="3895560"/>
            <a:ext cx="7978680" cy="11401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857160" y="514368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10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sexual vs. Sexual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iosi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225360" y="302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87692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ter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NA replicates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2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hook up into homologous pairs and form tetrad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ossing over may occu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Content Placeholder 4" descr="Meiosis 1.gif"/>
          <p:cNvPicPr/>
          <p:nvPr/>
        </p:nvPicPr>
        <p:blipFill>
          <a:blip r:embed="rId2"/>
          <a:srcRect l="0" t="4545" r="51251" b="0"/>
          <a:stretch/>
        </p:blipFill>
        <p:spPr>
          <a:xfrm>
            <a:off x="152280" y="1143000"/>
            <a:ext cx="4654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4" descr="Homologous 2.jpg"/>
          <p:cNvPicPr/>
          <p:nvPr/>
        </p:nvPicPr>
        <p:blipFill>
          <a:blip r:embed="rId2"/>
          <a:stretch/>
        </p:blipFill>
        <p:spPr>
          <a:xfrm>
            <a:off x="826920" y="2008080"/>
            <a:ext cx="3314880" cy="4048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65624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that both contain genetic information for the same biological trai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ne set is from the female parent, and the other set from the male parent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iosis I separates these chromosome pai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7" name="Content Placeholder 4" descr="Homologous 1.gif"/>
          <p:cNvPicPr/>
          <p:nvPr/>
        </p:nvPicPr>
        <p:blipFill>
          <a:blip r:embed="rId2"/>
          <a:stretch/>
        </p:blipFill>
        <p:spPr>
          <a:xfrm>
            <a:off x="546120" y="14479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homologous chromosomes pair up they form a tetra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metimes the 2 closest chromatids within the tetrad exchange whole sections of genetic informa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0" name="Content Placeholder 4" descr="Meiosis 1.gif"/>
          <p:cNvPicPr/>
          <p:nvPr/>
        </p:nvPicPr>
        <p:blipFill>
          <a:blip r:embed="rId2"/>
          <a:srcRect l="48866" t="0" r="24724" b="0"/>
          <a:stretch/>
        </p:blipFill>
        <p:spPr>
          <a:xfrm>
            <a:off x="762120" y="1447920"/>
            <a:ext cx="2971800" cy="5064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656240" y="1769760"/>
            <a:ext cx="403848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Met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etrads line up along the center of the cel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3" name="Content Placeholder 4" descr="Meiosis 1.gif"/>
          <p:cNvPicPr/>
          <p:nvPr/>
        </p:nvPicPr>
        <p:blipFill>
          <a:blip r:embed="rId2"/>
          <a:srcRect l="75281" t="0" r="0" b="0"/>
          <a:stretch/>
        </p:blipFill>
        <p:spPr>
          <a:xfrm>
            <a:off x="838080" y="1447920"/>
            <a:ext cx="2743200" cy="5194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56240" y="1769760"/>
            <a:ext cx="403848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n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Homologous pairs split up and move to opposite ends of the cell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25360" y="1094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962520" y="12949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lophase I &amp; Cytokine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parent cell divides into 2 haploid (N) daughter cells, each with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2 resulting daughter cells go directly into Prophase I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re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NO INTERPHASE II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Content Placeholder 6" descr="Meiosis 2.gif"/>
          <p:cNvPicPr/>
          <p:nvPr/>
        </p:nvPicPr>
        <p:blipFill>
          <a:blip r:embed="rId2"/>
          <a:srcRect l="0" t="0" r="61802" b="0"/>
          <a:stretch/>
        </p:blipFill>
        <p:spPr>
          <a:xfrm>
            <a:off x="257040" y="1295280"/>
            <a:ext cx="36291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474040" cy="1042920"/>
          </a:xfrm>
          <a:prstGeom prst="rect">
            <a:avLst/>
          </a:prstGeom>
          <a:ln w="0">
            <a:noFill/>
          </a:ln>
        </p:spPr>
      </p:pic>
      <p:pic>
        <p:nvPicPr>
          <p:cNvPr id="329" name="Content Placeholder 4" descr="Meiosis 2.gif"/>
          <p:cNvPicPr/>
          <p:nvPr/>
        </p:nvPicPr>
        <p:blipFill>
          <a:blip r:embed="rId2"/>
          <a:srcRect l="21470" t="0" r="0" b="0"/>
          <a:stretch/>
        </p:blipFill>
        <p:spPr>
          <a:xfrm>
            <a:off x="228600" y="1371600"/>
            <a:ext cx="5332320" cy="4495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943240" y="1770120"/>
            <a:ext cx="30481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l phases of meiosis II occur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ach of the 2 cells produced from meiosis I divide, resulting in 4 daughter cells tot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4" descr=""/>
          <p:cNvPicPr/>
          <p:nvPr/>
        </p:nvPicPr>
        <p:blipFill>
          <a:blip r:embed="rId1"/>
          <a:stretch/>
        </p:blipFill>
        <p:spPr>
          <a:xfrm>
            <a:off x="682560" y="244440"/>
            <a:ext cx="2536920" cy="1614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3429000" cy="18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highered.mcgraw-hill.com/sites/0072495855/student_view0/chapter2/animation__comparison_of_meiosis_and_mitosis__quiz_1_.html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3" name="Content Placeholder 6" descr="MitosisvMeiosis 1.gif"/>
          <p:cNvPicPr/>
          <p:nvPr/>
        </p:nvPicPr>
        <p:blipFill>
          <a:blip r:embed="rId3"/>
          <a:stretch/>
        </p:blipFill>
        <p:spPr>
          <a:xfrm>
            <a:off x="4205160" y="365040"/>
            <a:ext cx="448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Meiosis.jpg"/>
          <p:cNvPicPr/>
          <p:nvPr/>
        </p:nvPicPr>
        <p:blipFill>
          <a:blip r:embed="rId2"/>
          <a:stretch/>
        </p:blipFill>
        <p:spPr>
          <a:xfrm>
            <a:off x="152280" y="1447920"/>
            <a:ext cx="4542120" cy="5275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876920" y="1770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formation of gametes (sex cells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males, 4 sperm cell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females, 1 egg cell (ovum) and 3 polar bodie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4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ito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8288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body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2 diploid (2N) daughter cells 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the full number of chromosomes (an exact copy of the parent cell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7960" y="182880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sex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4 haploid (N) daughter cell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A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981080"/>
            <a:ext cx="404028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one par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are genetically identical to that paren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 fo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ellular division (mitosis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udd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genera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ores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on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4720" y="1981080"/>
            <a:ext cx="404172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2 paren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have some genetic information (DNA) from each parent that recombines to form a genetically unique individua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7" descr=""/>
          <p:cNvPicPr/>
          <p:nvPr/>
        </p:nvPicPr>
        <p:blipFill>
          <a:blip r:embed="rId1"/>
          <a:stretch/>
        </p:blipFill>
        <p:spPr>
          <a:xfrm>
            <a:off x="828720" y="4937040"/>
            <a:ext cx="6950160" cy="714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Placeholder 11" descr="Amoeba Dividing.jpg"/>
          <p:cNvPicPr/>
          <p:nvPr/>
        </p:nvPicPr>
        <p:blipFill>
          <a:blip r:embed="rId2"/>
          <a:srcRect l="6649" t="0" r="6649" b="0"/>
          <a:stretch/>
        </p:blipFill>
        <p:spPr>
          <a:xfrm>
            <a:off x="914400" y="357120"/>
            <a:ext cx="6858000" cy="42861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914400" y="5643720"/>
            <a:ext cx="76960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rbel"/>
              </a:rPr>
              <a:t>Cellular Division: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parent cell divides into 2 daughter cell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5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1434960"/>
            <a:ext cx="3353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Budd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 produces an outgrowth (bud) of the body that later detaches into an individ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6" name="Picture Placeholder 4" descr="hydra budding.jpg"/>
          <p:cNvPicPr/>
          <p:nvPr/>
        </p:nvPicPr>
        <p:blipFill>
          <a:blip r:embed="rId2"/>
          <a:stretch/>
        </p:blipFill>
        <p:spPr>
          <a:xfrm>
            <a:off x="4038480" y="528480"/>
            <a:ext cx="457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80520" y="1434960"/>
            <a:ext cx="3124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generation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n organism develops from detached portions of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9" name="Picture Placeholder 7" descr="Planera Regeneration.jpg"/>
          <p:cNvPicPr/>
          <p:nvPr/>
        </p:nvPicPr>
        <p:blipFill>
          <a:blip r:embed="rId2"/>
          <a:stretch/>
        </p:blipFill>
        <p:spPr>
          <a:xfrm>
            <a:off x="3581280" y="609480"/>
            <a:ext cx="5243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43496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Spores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s develop from special cells produced by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2" name="Picture Placeholder 7" descr="Spore Reproduction.jpg"/>
          <p:cNvPicPr/>
          <p:nvPr/>
        </p:nvPicPr>
        <p:blipFill>
          <a:blip r:embed="rId2"/>
          <a:stretch/>
        </p:blipFill>
        <p:spPr>
          <a:xfrm>
            <a:off x="3505320" y="533520"/>
            <a:ext cx="5181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85440" y="1434960"/>
            <a:ext cx="25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Clon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 biotechnology technique in which offspring are genetic copies of the par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Content Placeholder 4" descr="Dolly the Sheep.jpg"/>
          <p:cNvPicPr/>
          <p:nvPr/>
        </p:nvPicPr>
        <p:blipFill>
          <a:blip r:embed="rId2"/>
          <a:stretch/>
        </p:blipFill>
        <p:spPr>
          <a:xfrm>
            <a:off x="3505320" y="838080"/>
            <a:ext cx="5172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4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ffspring receive half of their genetic information from one parent and half from the other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nes are carried on the chromosomes of sex cells – also called gamet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les = spe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emales = ovum (egg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ccurs only in gametes (sex cell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 sets of cell division involv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 daughter cells produc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ch daughter cell has half the chromosomes of the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34:08Z</dcterms:created>
  <dc:creator>Joy Finerson</dc:creator>
  <dc:description/>
  <dc:language>en-US</dc:language>
  <cp:lastModifiedBy>Joy Finerson</cp:lastModifiedBy>
  <dcterms:modified xsi:type="dcterms:W3CDTF">2010-03-05T17:14:31Z</dcterms:modified>
  <cp:revision>51</cp:revision>
  <dc:subject/>
  <dc:title>Slide 1</dc:title>
</cp:coreProperties>
</file>