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F3E1-8997-44F7-B3AF-56CA8291B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7741-DA0A-48AA-87C5-BC86B11CED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010A-46E6-4431-9774-694C1DD6EF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DC03-F77F-4B7C-9623-09E1709694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3B5B-39FB-45BE-BEAA-8DAD7F1ED6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F285-376C-474E-91EE-A11B5B8B02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9D0D-045D-4F4A-A379-1A49B0AEF6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A7E1-2B46-45E6-807D-AD7CDCD432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E0CE-1F3B-4159-902A-253416BAE3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05DF-DAE3-431B-A883-555D2C7A1E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0E56-DC90-4E14-B594-E7018CF037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F43D-81BB-4FBC-A80E-9EDB732D27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4542-48BB-4E28-9114-206E709071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09EC-1DEE-4801-A44C-E084E0D9D8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C4D1-BF11-4D3F-99A1-E5869EDF14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7C89-FFF1-4DF0-8CF7-DD12CEC1B3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EC11-DA13-4573-892D-A49214B225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2E04-18B2-47DA-90DB-D87A2688A6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06ED-2C65-470C-B10A-13AEF08713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BA58-CD7B-4396-AEC4-83C53BF82A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4D3-4B22-494D-98EC-2414880D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D9D-7BA6-429D-992E-14C0FA02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DF1-4A6F-4D24-B3AC-E76A8A84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EAA-A6F7-4D49-A962-A69D840F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C306-7BCB-4368-BD55-96BAEE1D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DDCC-295D-441B-B27D-BB1FED92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84CE-7233-4806-8186-7268CC6E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FA32-F3B4-46FA-A447-1E37553C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F45C-77A4-425F-A46D-B15B1356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0D63-D011-4FD6-8105-03CF0406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D502-58AA-414A-B05B-D6179B73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6C4-A3A2-43C1-A45D-7475F3BB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E0D6-6D82-48B4-8CA3-C9931098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E508-698B-45E5-9557-00B41169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A05D-D134-4152-B99F-850AB601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0F28-FD9C-4BB5-9372-6BC1FFE8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8726-F666-42AD-86B1-E87B1F0E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D939-F40F-462C-9295-E50C9100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F554-E3F1-46A7-B39A-6063CFE8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5D71B-F4BC-49E4-BCE6-595C4EEB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B127-F7FF-4F77-BC82-156B5309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9A4E-4AC6-4D18-BDEB-D9CAFFBB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CE6-992C-42CC-AFD6-5082BDBC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CFE7-BCAF-4222-ACE2-42F1CAC3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0821-3C83-4A3E-A2D8-B07E14B6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C57F-2663-4F31-B44C-54E51F5D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7553-F32F-4300-81C2-64CA0248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C948-702F-4C87-AF24-3E145E38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B316-7112-4B18-8125-F83AA223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479B-7B13-4C44-9B65-0E117D17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6270A-980E-49CF-AD71-3E6AFA13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DAEF9-D48E-463A-9523-90441E6D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1817-0846-48BC-8525-257F70C4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4AF-C2E1-4A0D-8BA7-17417CE4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376B0-1E9C-45A4-8ED4-0CDFACAC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D874-03F6-4CAA-8ACC-3A68170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4BCB1-7DF4-494F-8162-9A0FAFC7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79D10-6C63-47AA-B523-F2F7C584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3FC16-7F05-4CF2-B46E-D0AC0D1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98D2-5EF0-4044-BA3E-BBB23043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2C89-1472-4829-95CB-426E660F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DCC5-F919-45E2-A35F-3F334A21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E0B0C-FCE4-4184-83EF-4DBF9618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354E7-602A-4E16-BAEB-C27B8798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D88-31E0-410F-B204-D0C63C80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78BA-7139-4E1B-BE4C-180CC815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CFBEB-C44A-406D-B944-C1D07EDA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AF93-476C-4AB1-BFBC-9F02E971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413C-0628-41D2-8A31-EF5D4500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BD13C-68DC-453D-8CB5-9EE05C1C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571B7-0C43-40FE-9E08-0C73175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E55F-C10A-4DF9-9C8C-EF075F2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E08F-755B-49D0-BF5D-0A47CB0B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B18B7-6371-41E7-9F6B-64C0992F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F6A76-7B86-4BB6-B8A3-4699CAE5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D21-5D4C-475F-B78D-AA608CCC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16FE2-B6C1-4F2A-8E58-C15BFFB0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7175A-22F6-411C-855D-6AF41B5B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81CA4-A9C6-4122-B6EB-28E7A022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C459-C0EF-49B8-AF66-1ADCF686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99923-547D-4129-83DE-52D1DF85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4FE7-0E87-44DB-BCC3-5319CD70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70E7-7377-4FCA-909F-00456D0A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9610-E04F-4628-A210-B1194902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39E4C-B1FE-4783-8AAB-CF22D3E1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0C074-7990-49C3-A6FA-948EF2A1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5FE-7DAE-470E-9D66-DF241EB6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E9085-2C38-49D1-834F-F1C694C3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A48C1-8BF5-48B7-9E92-DE2EADE0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F1546-2092-4D19-AACA-FFAC1019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0F6-3986-4323-B684-2A06C2B0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AD0-3AE8-41A0-BE68-E1429425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25D4-8329-4091-A862-460624F614F1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8429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7286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7286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7572240" y="2786040"/>
            <a:ext cx="21456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7572240" y="3357720"/>
            <a:ext cx="21456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85808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785808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8429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814392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814392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572240" y="3071880"/>
            <a:ext cx="21456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785808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8429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814392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7286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5EFD-D9A7-4C26-8E9F-A8CF9D5795DB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714240" y="5276880"/>
            <a:ext cx="7500960" cy="1440"/>
          </a:xfrm>
          <a:prstGeom prst="line">
            <a:avLst/>
          </a:prstGeom>
          <a:ln w="9360">
            <a:solidFill>
              <a:srgbClr val="fff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79DE-6B60-43C5-8295-C5E63AFF268A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418E-8643-4AA0-A7EE-08B179E91376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F3C3-9F7E-4B41-B756-CF452FC4BDFC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B6D4-5ADE-4237-8C30-356185E6514F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highered.mcgraw-hill.com/sites/0072495855/student_view0/chapter2/animation__comparison_of_meiosis_and_mitosis__quiz_1_.html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658800" y="3895560"/>
            <a:ext cx="7978680" cy="11401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857160" y="514368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10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sexual vs. Sexual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iosi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225360" y="302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87692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ter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NA replicates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2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hook up into homologous pairs and form tetrad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ossing over may occu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Content Placeholder 4" descr="Meiosis 1.gif"/>
          <p:cNvPicPr/>
          <p:nvPr/>
        </p:nvPicPr>
        <p:blipFill>
          <a:blip r:embed="rId2"/>
          <a:srcRect l="0" t="4545" r="51251" b="0"/>
          <a:stretch/>
        </p:blipFill>
        <p:spPr>
          <a:xfrm>
            <a:off x="152280" y="1143000"/>
            <a:ext cx="4654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4" descr="Homologous 2.jpg"/>
          <p:cNvPicPr/>
          <p:nvPr/>
        </p:nvPicPr>
        <p:blipFill>
          <a:blip r:embed="rId2"/>
          <a:stretch/>
        </p:blipFill>
        <p:spPr>
          <a:xfrm>
            <a:off x="826920" y="2008080"/>
            <a:ext cx="3314880" cy="4048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65624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that both contain genetic information for the same biological trai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ne set is from the female parent, and the other set from the male parent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iosis I separates these chromosome pai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7" name="Content Placeholder 4" descr="Homologous 1.gif"/>
          <p:cNvPicPr/>
          <p:nvPr/>
        </p:nvPicPr>
        <p:blipFill>
          <a:blip r:embed="rId2"/>
          <a:stretch/>
        </p:blipFill>
        <p:spPr>
          <a:xfrm>
            <a:off x="546120" y="14479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homologous chromosomes pair up they form a tetra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metimes the 2 closest chromatids within the tetrad exchange whole sections of genetic informa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0" name="Content Placeholder 4" descr="Meiosis 1.gif"/>
          <p:cNvPicPr/>
          <p:nvPr/>
        </p:nvPicPr>
        <p:blipFill>
          <a:blip r:embed="rId2"/>
          <a:srcRect l="48866" t="0" r="24724" b="0"/>
          <a:stretch/>
        </p:blipFill>
        <p:spPr>
          <a:xfrm>
            <a:off x="762120" y="1447920"/>
            <a:ext cx="2971800" cy="5064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656240" y="1769760"/>
            <a:ext cx="403848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Met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etrads line up along the center of the cel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3" name="Content Placeholder 4" descr="Meiosis 1.gif"/>
          <p:cNvPicPr/>
          <p:nvPr/>
        </p:nvPicPr>
        <p:blipFill>
          <a:blip r:embed="rId2"/>
          <a:srcRect l="75281" t="0" r="0" b="0"/>
          <a:stretch/>
        </p:blipFill>
        <p:spPr>
          <a:xfrm>
            <a:off x="838080" y="1447920"/>
            <a:ext cx="2743200" cy="5194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56240" y="1769760"/>
            <a:ext cx="403848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n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Homologous pairs split up and move to opposite ends of the cell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25360" y="1094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962520" y="12949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lophase I &amp; Cytokine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parent cell divides into 2 haploid (N) daughter cells, each with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2 resulting daughter cells go directly into Prophase I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re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NO INTERPHASE II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Content Placeholder 6" descr="Meiosis 2.gif"/>
          <p:cNvPicPr/>
          <p:nvPr/>
        </p:nvPicPr>
        <p:blipFill>
          <a:blip r:embed="rId2"/>
          <a:srcRect l="0" t="0" r="61802" b="0"/>
          <a:stretch/>
        </p:blipFill>
        <p:spPr>
          <a:xfrm>
            <a:off x="257040" y="1295280"/>
            <a:ext cx="36291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474040" cy="1042920"/>
          </a:xfrm>
          <a:prstGeom prst="rect">
            <a:avLst/>
          </a:prstGeom>
          <a:ln w="0">
            <a:noFill/>
          </a:ln>
        </p:spPr>
      </p:pic>
      <p:pic>
        <p:nvPicPr>
          <p:cNvPr id="329" name="Content Placeholder 4" descr="Meiosis 2.gif"/>
          <p:cNvPicPr/>
          <p:nvPr/>
        </p:nvPicPr>
        <p:blipFill>
          <a:blip r:embed="rId2"/>
          <a:srcRect l="21470" t="0" r="0" b="0"/>
          <a:stretch/>
        </p:blipFill>
        <p:spPr>
          <a:xfrm>
            <a:off x="228600" y="1371600"/>
            <a:ext cx="5332320" cy="4495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943240" y="1770120"/>
            <a:ext cx="30481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l phases of meiosis II occur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ach of the 2 cells produced from meiosis I divide, resulting in 4 daughter cells tot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4" descr=""/>
          <p:cNvPicPr/>
          <p:nvPr/>
        </p:nvPicPr>
        <p:blipFill>
          <a:blip r:embed="rId1"/>
          <a:stretch/>
        </p:blipFill>
        <p:spPr>
          <a:xfrm>
            <a:off x="682560" y="244440"/>
            <a:ext cx="2536920" cy="1614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3429000" cy="18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highered.mcgraw-hill.com/sites/0072495855/student_view0/chapter2/animation__comparison_of_meiosis_and_mitosis__quiz_1_.html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3" name="Content Placeholder 6" descr="MitosisvMeiosis 1.gif"/>
          <p:cNvPicPr/>
          <p:nvPr/>
        </p:nvPicPr>
        <p:blipFill>
          <a:blip r:embed="rId3"/>
          <a:stretch/>
        </p:blipFill>
        <p:spPr>
          <a:xfrm>
            <a:off x="4205160" y="365040"/>
            <a:ext cx="448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Meiosis.jpg"/>
          <p:cNvPicPr/>
          <p:nvPr/>
        </p:nvPicPr>
        <p:blipFill>
          <a:blip r:embed="rId2"/>
          <a:stretch/>
        </p:blipFill>
        <p:spPr>
          <a:xfrm>
            <a:off x="152280" y="1447920"/>
            <a:ext cx="4542120" cy="5275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876920" y="1770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formation of gametes (sex cells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males, 4 sperm cell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females, 1 egg cell (ovum) and 3 polar bodie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4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ito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8288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body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2 diploid (2N) daughter cells 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the full number of chromosomes (an exact copy of the parent cell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7960" y="182880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sex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4 haploid (N) daughter cell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A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981080"/>
            <a:ext cx="404028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one par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are genetically identical to that paren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 fo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ellular division (mitosis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udd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genera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ores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on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4720" y="1981080"/>
            <a:ext cx="404172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2 paren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have some genetic information (DNA) from each parent that recombines to form a genetically unique individua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7" descr=""/>
          <p:cNvPicPr/>
          <p:nvPr/>
        </p:nvPicPr>
        <p:blipFill>
          <a:blip r:embed="rId1"/>
          <a:stretch/>
        </p:blipFill>
        <p:spPr>
          <a:xfrm>
            <a:off x="828720" y="4937040"/>
            <a:ext cx="6950160" cy="714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Placeholder 11" descr="Amoeba Dividing.jpg"/>
          <p:cNvPicPr/>
          <p:nvPr/>
        </p:nvPicPr>
        <p:blipFill>
          <a:blip r:embed="rId2"/>
          <a:srcRect l="6649" t="0" r="6649" b="0"/>
          <a:stretch/>
        </p:blipFill>
        <p:spPr>
          <a:xfrm>
            <a:off x="914400" y="357120"/>
            <a:ext cx="6858000" cy="42861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914400" y="5643720"/>
            <a:ext cx="76960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rbel"/>
              </a:rPr>
              <a:t>Cellular Division: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parent cell divides into 2 daughter cell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5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1434960"/>
            <a:ext cx="3353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Budd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 produces an outgrowth (bud) of the body that later detaches into an individ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6" name="Picture Placeholder 4" descr="hydra budding.jpg"/>
          <p:cNvPicPr/>
          <p:nvPr/>
        </p:nvPicPr>
        <p:blipFill>
          <a:blip r:embed="rId2"/>
          <a:stretch/>
        </p:blipFill>
        <p:spPr>
          <a:xfrm>
            <a:off x="4038480" y="528480"/>
            <a:ext cx="457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80520" y="1434960"/>
            <a:ext cx="3124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generation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n organism develops from detached portions of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9" name="Picture Placeholder 7" descr="Planera Regeneration.jpg"/>
          <p:cNvPicPr/>
          <p:nvPr/>
        </p:nvPicPr>
        <p:blipFill>
          <a:blip r:embed="rId2"/>
          <a:stretch/>
        </p:blipFill>
        <p:spPr>
          <a:xfrm>
            <a:off x="3581280" y="609480"/>
            <a:ext cx="5243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43496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Spores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s develop from special cells produced by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2" name="Picture Placeholder 7" descr="Spore Reproduction.jpg"/>
          <p:cNvPicPr/>
          <p:nvPr/>
        </p:nvPicPr>
        <p:blipFill>
          <a:blip r:embed="rId2"/>
          <a:stretch/>
        </p:blipFill>
        <p:spPr>
          <a:xfrm>
            <a:off x="3505320" y="533520"/>
            <a:ext cx="5181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85440" y="1434960"/>
            <a:ext cx="25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Clon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 biotechnology technique in which offspring are genetic copies of the par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Content Placeholder 4" descr="Dolly the Sheep.jpg"/>
          <p:cNvPicPr/>
          <p:nvPr/>
        </p:nvPicPr>
        <p:blipFill>
          <a:blip r:embed="rId2"/>
          <a:stretch/>
        </p:blipFill>
        <p:spPr>
          <a:xfrm>
            <a:off x="3505320" y="838080"/>
            <a:ext cx="5172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4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ffspring receive half of their genetic information from one parent and half from the other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nes are carried on the chromosomes of sex cells – also called gamet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les = spe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emales = ovum (egg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ccurs only in gametes (sex cell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 sets of cell division involv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 daughter cells produc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ch daughter cell has half the chromosomes of the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34:08Z</dcterms:created>
  <dc:creator>Joy Finerson</dc:creator>
  <dc:description/>
  <dc:language>en-US</dc:language>
  <cp:lastModifiedBy>Joy Finerson</cp:lastModifiedBy>
  <dcterms:modified xsi:type="dcterms:W3CDTF">2010-03-05T17:14:31Z</dcterms:modified>
  <cp:revision>51</cp:revision>
  <dc:subject/>
  <dc:title>Slide 1</dc:title>
</cp:coreProperties>
</file>