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6068-234E-4509-9779-975BB7598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CAB8-7EAB-4AC5-ACC6-44876465FB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35A1-0DE6-41F6-861A-388BC6593D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7192-6454-4420-BE3E-927E10DE91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CFEA-2694-4AFF-82AA-F1F3414EDB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754F-08BD-4594-A180-5A9BFFF0E4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81C4-951D-4F30-B210-8FC56F6402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3571-8636-4B98-AB4B-157D27566F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742F-E2C8-40F3-B93E-91E36F8A07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C565-6AD0-4B44-8609-828B3F7B3E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8EBC-7719-4B4C-A909-A9225FBEEE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D88A-0A8C-4DC3-BF18-2BAE9F901D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BBDF-A004-4601-B35C-CFFEB632EE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71C3-E457-45EB-BE9A-674825D4DF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468B-F46B-4FE7-9F33-3CBCF87E91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28C7-6062-483D-BD0B-543B4DE003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C5FB-A8BA-4B85-928C-C66AE23947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95DB-C2AC-4ADD-B50A-E074236433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BE4B-DF8F-4C11-9311-F16EDA1B4D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AD65-9AC9-427C-A307-6B1B0671E3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A6A-7B2E-4CD1-824F-667DCB39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D02-3D6C-4642-895E-5ADF0840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746-F394-450E-BD0D-659F268B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495-95A0-4B13-9911-F59BE060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2FD8-2483-4C26-A830-3DB8F3A5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12DE-9CB7-4FF7-BAC8-4EE49E2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F9D4-2174-470D-A918-428161D2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01AD-B185-4B9B-9C8F-F62F6169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1378-AFE7-4E73-B914-6DEB7EDB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E7F5-A032-4F04-A75C-03C43ECF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F918-49A7-4EBC-AE74-DF487245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67C-F244-406B-A0FC-F4AE458D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13BB-175B-4C3D-B4B4-F3A2C141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6118-B918-48E8-A854-F0E4A45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8822-B41F-401F-B370-D2A78286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7068-3F4A-4E82-9BA3-95E8FB53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0872-484F-43F3-9C02-CF4E96E8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857BE-12C5-45C2-8D00-39131FB2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0592-133D-482A-96B3-3F0A043A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072B-E5FD-4689-9F74-2902CFA2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3560-3376-4970-8479-309DB8B9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D9E8-85F2-46A2-A706-D6A0F789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CD5-C496-4809-A798-8F7D4A8B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0089-A6D7-4F98-9C07-7ACBDD82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9C1EB-F199-4CAE-A3E4-F8304BEA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3149-0FAA-4DE2-A335-2D0191D7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8E14-65BB-46C4-93F5-D18CE4DB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82655-C165-4F27-8267-FF8A76A4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32FA-5739-41A5-B482-767C1ABB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6C22-1DD2-419A-A049-556BD682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75CD9-33E0-4834-8ED3-BBB566CA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82EA5-84D1-4F0F-8121-F0EB6AD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F8E4-7279-4C5F-B877-59DC9E2E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160-D72B-4DC9-ACC3-8A81AE25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2A20-8F27-4A63-8E85-6587648A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603D-C1D0-4241-A673-5654EFE1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526A-EA1A-4F98-8FD5-1AD0B68D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43916-C331-40BA-A107-3A2C9C7D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404A-6B50-4854-8598-FC33C35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4E872-A18A-4600-ACCE-A01C7398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C0B7-C2BA-460B-942F-E2FA4B90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34A2-32DF-4014-B3F7-3597E573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17AE2-E94D-4C23-90EB-8DD85D88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BE601-460C-4AC8-9596-A03AB6CD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DA6-8165-49A3-B2BA-AF8D5FBF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C213-2C7C-4D50-9209-6BF71476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29FB-52B6-4858-A1F2-14CEDEE2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E5489-522A-47C9-B8E2-77960ED5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CBD09-9FD2-4351-8AA8-ECF16C25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B5C7-F2A9-4694-BE22-9F8C10E0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F67C0-2148-4FA9-854F-C86E8F8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8AF77-69C0-44EA-8E77-E6BAEFF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2FB2D-FCC8-4262-A2DA-0F072293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8909C-511B-42F3-88B2-67362504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3CD85-A9A9-415A-9D25-C51AA91A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E7B-346C-475E-946A-ACAD20EC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EAC6E-C40B-4903-9618-4C91DDB5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9AC87-11FF-4D68-9E59-4FA2F53A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862A7-8E17-4DE2-A5C2-8ED0812E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A4675-2DEC-4526-8A42-DB131D7B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D62B3-F7D7-4F72-8EC8-9F292A6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5D98D-4DE7-4CCC-B38F-036755E0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34D5F-43CE-4A2D-AB20-A3490619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F1C7A-B2F1-4C32-8882-6C1B9BA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4BADF-0ECB-42C9-A0EA-D6D8197E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2B12A-D891-402A-B08F-74D2E56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DAE-951D-40E7-9FFA-405693AE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4311D-5A03-496A-9295-7DDDE07F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698E-E840-449B-BA97-7607E8D4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A1187-8EEC-45B5-A2D5-E355C3A0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077-3834-42A7-AA7B-C5B01ED8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C10-D042-4165-9E43-88D94B96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57B9-C9B7-4237-9DDE-191A1B0CE3AD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8429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7286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7286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7572240" y="2786040"/>
            <a:ext cx="21456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7572240" y="3357720"/>
            <a:ext cx="21456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85808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785808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8429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814392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814392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572240" y="3071880"/>
            <a:ext cx="21456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785808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8429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814392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7286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58F1-FA0F-43E4-A554-312334D83500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714240" y="5276880"/>
            <a:ext cx="7500960" cy="1440"/>
          </a:xfrm>
          <a:prstGeom prst="line">
            <a:avLst/>
          </a:prstGeom>
          <a:ln w="9360">
            <a:solidFill>
              <a:srgbClr val="fff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3F5E-B4FE-4A61-B749-D5486C62C936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AAE6-D66B-4189-8F1E-1F49F63BFF52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C509-6192-4ECD-8B36-FB0ACD0C5E5D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33F1-66E2-4603-8D1C-B210F6AC0326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highered.mcgraw-hill.com/sites/0072495855/student_view0/chapter2/animation__comparison_of_meiosis_and_mitosis__quiz_1_.html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658800" y="3895560"/>
            <a:ext cx="7978680" cy="11401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857160" y="514368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10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sexual vs. Sexual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iosi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87692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ter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NA replicates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2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hook up into homologous pairs and form tetrad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ossing over may occu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Content Placeholder 4" descr="Meiosis 1.gif"/>
          <p:cNvPicPr/>
          <p:nvPr/>
        </p:nvPicPr>
        <p:blipFill>
          <a:blip r:embed="rId2"/>
          <a:srcRect l="0" t="4545" r="51251" b="0"/>
          <a:stretch/>
        </p:blipFill>
        <p:spPr>
          <a:xfrm>
            <a:off x="152280" y="1143000"/>
            <a:ext cx="4654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4" descr="Homologous 2.jpg"/>
          <p:cNvPicPr/>
          <p:nvPr/>
        </p:nvPicPr>
        <p:blipFill>
          <a:blip r:embed="rId2"/>
          <a:stretch/>
        </p:blipFill>
        <p:spPr>
          <a:xfrm>
            <a:off x="826920" y="2008080"/>
            <a:ext cx="3314880" cy="4048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65624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that both contain genetic information for the same biological trai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ne set is from the female parent, and the other set from the male parent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iosis I separates these chromosome pai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4" descr="Homologous 1.gif"/>
          <p:cNvPicPr/>
          <p:nvPr/>
        </p:nvPicPr>
        <p:blipFill>
          <a:blip r:embed="rId2"/>
          <a:stretch/>
        </p:blipFill>
        <p:spPr>
          <a:xfrm>
            <a:off x="546120" y="14479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homologous chromosomes pair up they form a tetra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metimes the 2 closest chromatids within the tetrad exchange whole sections of genetic informa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0" name="Content Placeholder 4" descr="Meiosis 1.gif"/>
          <p:cNvPicPr/>
          <p:nvPr/>
        </p:nvPicPr>
        <p:blipFill>
          <a:blip r:embed="rId2"/>
          <a:srcRect l="48866" t="0" r="24724" b="0"/>
          <a:stretch/>
        </p:blipFill>
        <p:spPr>
          <a:xfrm>
            <a:off x="762120" y="1447920"/>
            <a:ext cx="2971800" cy="5064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656240" y="1769760"/>
            <a:ext cx="403848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Met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etrads line up along the center of the cel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3" name="Content Placeholder 4" descr="Meiosis 1.gif"/>
          <p:cNvPicPr/>
          <p:nvPr/>
        </p:nvPicPr>
        <p:blipFill>
          <a:blip r:embed="rId2"/>
          <a:srcRect l="75281" t="0" r="0" b="0"/>
          <a:stretch/>
        </p:blipFill>
        <p:spPr>
          <a:xfrm>
            <a:off x="838080" y="1447920"/>
            <a:ext cx="2743200" cy="5194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56240" y="1769760"/>
            <a:ext cx="403848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n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Homologous pairs split up and move to opposite ends of the cell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962520" y="12949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lophase I &amp; Cytokine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parent cell divides into 2 haploid (N) daughter cells, each with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2 resulting daughter cells go directly into Prophase I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re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NO INTERPHASE II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Content Placeholder 6" descr="Meiosis 2.gif"/>
          <p:cNvPicPr/>
          <p:nvPr/>
        </p:nvPicPr>
        <p:blipFill>
          <a:blip r:embed="rId2"/>
          <a:srcRect l="0" t="0" r="61802" b="0"/>
          <a:stretch/>
        </p:blipFill>
        <p:spPr>
          <a:xfrm>
            <a:off x="257040" y="1295280"/>
            <a:ext cx="3629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474040" cy="1042920"/>
          </a:xfrm>
          <a:prstGeom prst="rect">
            <a:avLst/>
          </a:prstGeom>
          <a:ln w="0">
            <a:noFill/>
          </a:ln>
        </p:spPr>
      </p:pic>
      <p:pic>
        <p:nvPicPr>
          <p:cNvPr id="329" name="Content Placeholder 4" descr="Meiosis 2.gif"/>
          <p:cNvPicPr/>
          <p:nvPr/>
        </p:nvPicPr>
        <p:blipFill>
          <a:blip r:embed="rId2"/>
          <a:srcRect l="21470" t="0" r="0" b="0"/>
          <a:stretch/>
        </p:blipFill>
        <p:spPr>
          <a:xfrm>
            <a:off x="228600" y="1371600"/>
            <a:ext cx="5332320" cy="4495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943240" y="1770120"/>
            <a:ext cx="30481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l phases of meiosis II occur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ach of the 2 cells produced from meiosis I divide, resulting in 4 daughter cells tot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4" descr=""/>
          <p:cNvPicPr/>
          <p:nvPr/>
        </p:nvPicPr>
        <p:blipFill>
          <a:blip r:embed="rId1"/>
          <a:stretch/>
        </p:blipFill>
        <p:spPr>
          <a:xfrm>
            <a:off x="682560" y="244440"/>
            <a:ext cx="2536920" cy="1614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3429000" cy="18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highered.mcgraw-hill.com/sites/0072495855/student_view0/chapter2/animation__comparison_of_meiosis_and_mitosis__quiz_1_.html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3" name="Content Placeholder 6" descr="MitosisvMeiosis 1.gif"/>
          <p:cNvPicPr/>
          <p:nvPr/>
        </p:nvPicPr>
        <p:blipFill>
          <a:blip r:embed="rId3"/>
          <a:stretch/>
        </p:blipFill>
        <p:spPr>
          <a:xfrm>
            <a:off x="4205160" y="365040"/>
            <a:ext cx="448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Meiosis.jpg"/>
          <p:cNvPicPr/>
          <p:nvPr/>
        </p:nvPicPr>
        <p:blipFill>
          <a:blip r:embed="rId2"/>
          <a:stretch/>
        </p:blipFill>
        <p:spPr>
          <a:xfrm>
            <a:off x="152280" y="1447920"/>
            <a:ext cx="4542120" cy="5275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876920" y="1770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formation of gametes (sex cells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males, 4 sperm cell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females, 1 egg cell (ovum) and 3 polar bodie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4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ito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8288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body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2 diploid (2N) daughter cells 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the full number of chromosomes (an exact copy of the parent cell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7960" y="182880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sex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4 haploid (N) daughter cell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A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981080"/>
            <a:ext cx="404028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one par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are genetically identical to that paren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 fo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ellular division (mitosi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udd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genera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ores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on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4720" y="1981080"/>
            <a:ext cx="404172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2 paren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have some genetic information (DNA) from each parent that recombines to form a genetically unique individua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7" descr=""/>
          <p:cNvPicPr/>
          <p:nvPr/>
        </p:nvPicPr>
        <p:blipFill>
          <a:blip r:embed="rId1"/>
          <a:stretch/>
        </p:blipFill>
        <p:spPr>
          <a:xfrm>
            <a:off x="828720" y="4937040"/>
            <a:ext cx="6950160" cy="714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Placeholder 11" descr="Amoeba Dividing.jpg"/>
          <p:cNvPicPr/>
          <p:nvPr/>
        </p:nvPicPr>
        <p:blipFill>
          <a:blip r:embed="rId2"/>
          <a:srcRect l="6649" t="0" r="6649" b="0"/>
          <a:stretch/>
        </p:blipFill>
        <p:spPr>
          <a:xfrm>
            <a:off x="914400" y="357120"/>
            <a:ext cx="6858000" cy="42861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914400" y="5643720"/>
            <a:ext cx="76960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rbel"/>
              </a:rPr>
              <a:t>Cellular Division: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parent cell divides into 2 daughter cell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5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1434960"/>
            <a:ext cx="3353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Budd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 produces an outgrowth (bud) of the body that later detaches into an individ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6" name="Picture Placeholder 4" descr="hydra budding.jpg"/>
          <p:cNvPicPr/>
          <p:nvPr/>
        </p:nvPicPr>
        <p:blipFill>
          <a:blip r:embed="rId2"/>
          <a:stretch/>
        </p:blipFill>
        <p:spPr>
          <a:xfrm>
            <a:off x="4038480" y="528480"/>
            <a:ext cx="457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80520" y="1434960"/>
            <a:ext cx="312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generation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n organism develops from detached portions of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9" name="Picture Placeholder 7" descr="Planera Regeneration.jpg"/>
          <p:cNvPicPr/>
          <p:nvPr/>
        </p:nvPicPr>
        <p:blipFill>
          <a:blip r:embed="rId2"/>
          <a:stretch/>
        </p:blipFill>
        <p:spPr>
          <a:xfrm>
            <a:off x="3581280" y="609480"/>
            <a:ext cx="5243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43496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Spores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s develop from special cells produced by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2" name="Picture Placeholder 7" descr="Spore Reproduction.jpg"/>
          <p:cNvPicPr/>
          <p:nvPr/>
        </p:nvPicPr>
        <p:blipFill>
          <a:blip r:embed="rId2"/>
          <a:stretch/>
        </p:blipFill>
        <p:spPr>
          <a:xfrm>
            <a:off x="3505320" y="533520"/>
            <a:ext cx="5181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440" y="1434960"/>
            <a:ext cx="25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Clon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 biotechnology technique in which offspring are genetic copies of the par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Content Placeholder 4" descr="Dolly the Sheep.jpg"/>
          <p:cNvPicPr/>
          <p:nvPr/>
        </p:nvPicPr>
        <p:blipFill>
          <a:blip r:embed="rId2"/>
          <a:stretch/>
        </p:blipFill>
        <p:spPr>
          <a:xfrm>
            <a:off x="3505320" y="838080"/>
            <a:ext cx="5172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4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ffspring receive half of their genetic information from one parent and half from the other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nes are carried on the chromosomes of sex cells – also called gamet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les = spe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emales = ovum (egg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ccurs only in gametes (sex cell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 sets of cell division involv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 daughter cells produc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ch daughter cell has half the chromosomes of the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34:08Z</dcterms:created>
  <dc:creator>Joy Finerson</dc:creator>
  <dc:description/>
  <dc:language>en-US</dc:language>
  <cp:lastModifiedBy>Joy Finerson</cp:lastModifiedBy>
  <dcterms:modified xsi:type="dcterms:W3CDTF">2010-03-05T17:14:31Z</dcterms:modified>
  <cp:revision>51</cp:revision>
  <dc:subject/>
  <dc:title>Slide 1</dc:title>
</cp:coreProperties>
</file>