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1774-B519-4DC6-8318-937FA5CFD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121-F885-4464-80C9-C83351C533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7E99-6D33-4EE6-83A1-D8353C3FEC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EEAD-7BE7-4938-B7EC-38DACD13CE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7260-9676-49FD-9457-3EA37981D5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7F3-B78E-4E1A-B68E-07520DE183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5D54-0564-4214-AB15-80665221DF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5F5-3A9B-4CE0-8A6D-05A1C20FE7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EE3-664E-4462-BDB9-E0E64DC44A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5B9C-9FB9-4CF7-B5C9-0D63472FEB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ADF9-65BA-4D21-A92F-0C44BB9B7C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7582-3FDD-4049-A565-67C1B17579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EBF2-7DA9-47B5-8D7A-9A64AB8F83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AC1-7A17-4A88-B66E-591EBE802F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CE2-7357-4DFC-9BFE-E22CB6E798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3C8F-5446-4398-A56B-5D90FA749E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DABB-D725-4F4B-9A26-675EE44DEC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9E8A-E0B5-48BD-8DA1-ABD0FA4CD1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1139-0E86-400E-B558-E9F4FB71A5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702C-5555-4A1E-AB53-896A85A51F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028-9DE0-4094-BEC9-ED964A61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B7A-9C3E-4B5E-8B8F-E149533F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900-925D-42C8-8397-2245F302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CC6-6054-4CC0-A3A4-62A700F8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2911-E311-40AB-9176-F702F64A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CB98-2B2B-47E5-8B66-A7876AF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E094-6EA0-4040-8DE3-11B57B91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3D89-0907-4E4A-937F-3B649508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8A6D-8E8C-45D4-957B-AB426CD2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315D-6BA5-4206-97A1-2F12A88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D22B-F56F-4662-BF55-05EE40EB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03A-E0C4-4B21-AC27-316550D2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3EE3-FDA4-42BC-A90C-73DAA83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BE36-BDCA-4DC6-8FFA-AE4B584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02EA-9EF4-463D-AA3F-9EF6CD9B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1C0A-3AC2-466B-B2CC-3CAD7B61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A26E-45BF-484B-A30F-E584C3E5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5A27-9795-4FBE-9AF4-18BA22C5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8BEF-7C31-4BE5-A132-013E66F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8CBE-208E-4748-B410-BAABE67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3913-78D8-4EC7-B3D4-F4DD128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E164-1E22-4339-AB4E-560D5E9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C79-DDEA-4899-BC10-ED31A16B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EA73-138E-4195-8C81-FD652AB8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7BB9-BAED-430D-8EC4-F9B39DC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5916-276E-4D88-9E3E-6E0D25AE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BDCD-8A92-43F8-B55A-9F04E7BD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FE20-9615-4861-A292-29BAF89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4D7B-367D-4DE3-B127-7F278B06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3438-9DC9-43AF-B642-942399BA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7034-42D8-4722-87C3-F7A8130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D29E-8DDE-4FD7-9534-935F14A4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D732-D283-4FBB-8FFD-4881A3A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BE9-2F04-4A7E-BA4A-81A80F46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FFF1-F4AE-4B3D-AB48-21302447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239E-530F-4C91-BFDE-6CB6D556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4321-E554-466E-8356-7B91BF87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F810-976D-4E63-9EE4-20018591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7B3C-573C-458E-B075-9D180AD2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0CD0-79DC-420B-BEA1-1391E620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A33D-D7D7-40A2-A1D0-4FDFFD3C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53230-101E-43C1-A2EE-706D5FE0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6E4E-FC10-4BBC-B05D-350CD221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218A-D7B3-4526-A4DC-0042E787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896-BD00-4734-9105-7149EB66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C5911-E777-482A-8065-8E4BE886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3C4A-A99E-4030-AB98-E7CE8EB7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9D0E-0A7A-41AA-8818-A4A754D6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2DA1-D64D-4DCB-93EC-060F5FBE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3A5DE-DF07-49AD-903B-A6F626F2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B6AE5-C60B-4A64-8AA8-44CFABF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84C0-11D3-4AA8-8986-F744E5D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8ECE-19E5-49AE-BD79-E385CE9C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5562-3F9C-4A28-BA30-DE6E99E1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0C1D9-EAB5-46AD-B610-FAB8488B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616-1B93-4C22-ABC9-6ACD07CF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505F-C35D-4119-9B24-6478EDC7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65D1-377A-44F5-AC3C-87B9F785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D701-C921-465C-964F-557B5BCA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801DF-8D00-47B7-A900-9D63BC69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88396-6A3A-4FAD-8A82-71E7C928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5124-EF87-44D2-A3A4-80CFCF91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9041F-5369-4D21-A4D3-05018B98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ED2B-5B7A-4286-8ED4-5A3AA75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99EAC-231A-4579-B764-69A36C18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2FBA5-B865-4DB0-9B78-5EEA132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4DC-B914-47A7-BB8F-33ED38CE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D597-43BF-4A9A-B97B-496FC13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055D3-7747-4ACA-8D4A-EF765AAC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F32C-FC19-48D7-9AC9-5DF91FFE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7A9-DFE6-4160-A778-198C2E0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15E-75C2-46AF-B514-94F45F8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4E49-A152-4CB7-8E5E-8BC38BE851CD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BC66-D0BF-400B-9D6D-0865C48FA209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25BD-17CE-4CC8-9115-4CD4E8758DDD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17AD-4D36-47CC-8949-F35BBB9C7EF3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D752-1192-4FFA-8BFD-C8DB0D67672D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0507-66C2-4E9E-A7CB-0FA105B707C5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comparison_of_meiosis_and_mitosis__quiz_1_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658800" y="3895560"/>
            <a:ext cx="7978680" cy="1140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57160" y="514368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10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sexual vs. Sexual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io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87692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NA replicates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2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hook up into homologous pairs and form tetrad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ossing over may occu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Content Placeholder 4" descr="Meiosis 1.gif"/>
          <p:cNvPicPr/>
          <p:nvPr/>
        </p:nvPicPr>
        <p:blipFill>
          <a:blip r:embed="rId2"/>
          <a:srcRect l="0" t="4545" r="51251" b="0"/>
          <a:stretch/>
        </p:blipFill>
        <p:spPr>
          <a:xfrm>
            <a:off x="152280" y="1143000"/>
            <a:ext cx="4654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omologous 2.jpg"/>
          <p:cNvPicPr/>
          <p:nvPr/>
        </p:nvPicPr>
        <p:blipFill>
          <a:blip r:embed="rId2"/>
          <a:stretch/>
        </p:blipFill>
        <p:spPr>
          <a:xfrm>
            <a:off x="826920" y="2008080"/>
            <a:ext cx="3314880" cy="4048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65624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that both contain genetic information for the same biological trai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e set is from the female parent, and the other set from the male paren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iosis I separates these chromosome pai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Homologous 1.gif"/>
          <p:cNvPicPr/>
          <p:nvPr/>
        </p:nvPicPr>
        <p:blipFill>
          <a:blip r:embed="rId2"/>
          <a:stretch/>
        </p:blipFill>
        <p:spPr>
          <a:xfrm>
            <a:off x="54612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homologous chromosomes pair up they form a tetra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the 2 closest chromatids within the tetrad exchange whole sections of genetic inform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Meiosis 1.gif"/>
          <p:cNvPicPr/>
          <p:nvPr/>
        </p:nvPicPr>
        <p:blipFill>
          <a:blip r:embed="rId2"/>
          <a:srcRect l="48866" t="0" r="24724" b="0"/>
          <a:stretch/>
        </p:blipFill>
        <p:spPr>
          <a:xfrm>
            <a:off x="762120" y="1447920"/>
            <a:ext cx="2971800" cy="506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56240" y="1769760"/>
            <a:ext cx="40384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Met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etrads line up along the center of the cel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4" descr="Meiosis 1.gif"/>
          <p:cNvPicPr/>
          <p:nvPr/>
        </p:nvPicPr>
        <p:blipFill>
          <a:blip r:embed="rId2"/>
          <a:srcRect l="75281" t="0" r="0" b="0"/>
          <a:stretch/>
        </p:blipFill>
        <p:spPr>
          <a:xfrm>
            <a:off x="838080" y="1447920"/>
            <a:ext cx="2743200" cy="519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56240" y="1769760"/>
            <a:ext cx="403848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n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mologous pairs split up and move to opposite ends of the cel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520" y="12949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lophase I &amp; Cytokine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parent cell divides into 2 haploid (N) daughter cells, each with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2 resulting daughter cells go directly into Prophase I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NO INTERPHASE I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Content Placeholder 6" descr="Meiosis 2.gif"/>
          <p:cNvPicPr/>
          <p:nvPr/>
        </p:nvPicPr>
        <p:blipFill>
          <a:blip r:embed="rId2"/>
          <a:srcRect l="0" t="0" r="61802" b="0"/>
          <a:stretch/>
        </p:blipFill>
        <p:spPr>
          <a:xfrm>
            <a:off x="257040" y="1295280"/>
            <a:ext cx="3629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474040" cy="104292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4" descr="Meiosis 2.gif"/>
          <p:cNvPicPr/>
          <p:nvPr/>
        </p:nvPicPr>
        <p:blipFill>
          <a:blip r:embed="rId2"/>
          <a:srcRect l="21470" t="0" r="0" b="0"/>
          <a:stretch/>
        </p:blipFill>
        <p:spPr>
          <a:xfrm>
            <a:off x="228600" y="1371600"/>
            <a:ext cx="5332320" cy="4495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943240" y="1770120"/>
            <a:ext cx="30481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 phases of meiosis II occur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ch of the 2 cells produced from meiosis I divide, resulting in 4 daughter cells tot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4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2536920" cy="1614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342900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highered.mcgraw-hill.com/sites/0072495855/student_view0/chapter2/animation__comparison_of_meiosis_and_mitosis__quiz_1_.html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3" name="Content Placeholder 6" descr="MitosisvMeiosis 1.gif"/>
          <p:cNvPicPr/>
          <p:nvPr/>
        </p:nvPicPr>
        <p:blipFill>
          <a:blip r:embed="rId3"/>
          <a:stretch/>
        </p:blipFill>
        <p:spPr>
          <a:xfrm>
            <a:off x="4205160" y="365040"/>
            <a:ext cx="448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Meiosis.jpg"/>
          <p:cNvPicPr/>
          <p:nvPr/>
        </p:nvPicPr>
        <p:blipFill>
          <a:blip r:embed="rId2"/>
          <a:stretch/>
        </p:blipFill>
        <p:spPr>
          <a:xfrm>
            <a:off x="152280" y="1447920"/>
            <a:ext cx="4542120" cy="5275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876920" y="1770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rmation of gametes (sex cells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males, 4 sperm cell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females, 1 egg cell (ovum) and 3 polar bodie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ito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8288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body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2 diploid (2N) daughter cells 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the full number of chromosomes (an exact copy of the parent cell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7960" y="182880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sex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4 haploid (N) daughter cell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A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81080"/>
            <a:ext cx="404028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one par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are genetically identical to that pare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 f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llular division (mitosi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udd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gener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res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o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981080"/>
            <a:ext cx="40417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2 par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have some genetic information (DNA) from each parent that recombines to form a genetically unique individu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7" descr=""/>
          <p:cNvPicPr/>
          <p:nvPr/>
        </p:nvPicPr>
        <p:blipFill>
          <a:blip r:embed="rId1"/>
          <a:stretch/>
        </p:blipFill>
        <p:spPr>
          <a:xfrm>
            <a:off x="828720" y="4937040"/>
            <a:ext cx="6950160" cy="714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11" descr="Amoeba Dividing.jpg"/>
          <p:cNvPicPr/>
          <p:nvPr/>
        </p:nvPicPr>
        <p:blipFill>
          <a:blip r:embed="rId2"/>
          <a:srcRect l="6649" t="0" r="6649" b="0"/>
          <a:stretch/>
        </p:blipFill>
        <p:spPr>
          <a:xfrm>
            <a:off x="914400" y="357120"/>
            <a:ext cx="6858000" cy="4286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14400" y="5643720"/>
            <a:ext cx="76960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Cellular Division: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parent cell divides into 2 daughter cel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5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143496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dd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 produces an outgrowth (bud) of the body that later detaches into an individ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Placeholder 4" descr="hydra budding.jpg"/>
          <p:cNvPicPr/>
          <p:nvPr/>
        </p:nvPicPr>
        <p:blipFill>
          <a:blip r:embed="rId2"/>
          <a:stretch/>
        </p:blipFill>
        <p:spPr>
          <a:xfrm>
            <a:off x="4038480" y="528480"/>
            <a:ext cx="457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143496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eneration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n organism develops from detached portions of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9" name="Picture Placeholder 7" descr="Planera Regeneration.jpg"/>
          <p:cNvPicPr/>
          <p:nvPr/>
        </p:nvPicPr>
        <p:blipFill>
          <a:blip r:embed="rId2"/>
          <a:stretch/>
        </p:blipFill>
        <p:spPr>
          <a:xfrm>
            <a:off x="3581280" y="609480"/>
            <a:ext cx="5243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3496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Spores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s develop from special cells produced by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2" name="Picture Placeholder 7" descr="Spore Reproduction.jpg"/>
          <p:cNvPicPr/>
          <p:nvPr/>
        </p:nvPicPr>
        <p:blipFill>
          <a:blip r:embed="rId2"/>
          <a:stretch/>
        </p:blipFill>
        <p:spPr>
          <a:xfrm>
            <a:off x="3505320" y="533520"/>
            <a:ext cx="5181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434960"/>
            <a:ext cx="25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lon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 biotechnology technique in which offspring are genetic copies of the par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Content Placeholder 4" descr="Dolly the Sheep.jpg"/>
          <p:cNvPicPr/>
          <p:nvPr/>
        </p:nvPicPr>
        <p:blipFill>
          <a:blip r:embed="rId2"/>
          <a:stretch/>
        </p:blipFill>
        <p:spPr>
          <a:xfrm>
            <a:off x="3505320" y="838080"/>
            <a:ext cx="5172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4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ffspring receive half of their genetic information from one parent and half from the other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nes are carried on the chromosomes of sex cells – also called game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les = sp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emales = ovum (egg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ccurs only in gametes (sex cell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 sets of cell division involv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 daughter cells produc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ch daughter cell has half the chromosomes of the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4:08Z</dcterms:created>
  <dc:creator>Joy Finerson</dc:creator>
  <dc:description/>
  <dc:language>en-US</dc:language>
  <cp:lastModifiedBy>Joy Finerson</cp:lastModifiedBy>
  <dcterms:modified xsi:type="dcterms:W3CDTF">2010-03-05T17:14:31Z</dcterms:modified>
  <cp:revision>51</cp:revision>
  <dc:subject/>
  <dc:title>Slide 1</dc:title>
</cp:coreProperties>
</file>