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3E95-17D0-43B4-93DD-ACB7C55DB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2684-76DD-4656-9D7D-FB664D33A3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335E-5300-4B4F-AFE4-7D79142636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A934-ADC9-486C-8729-2DF631DCB0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1063-B3A4-497E-ABE0-7CFA04AA82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1555-016E-4E93-BB51-4AE41BDFAA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BA6-8877-47A5-BF00-4662FFB400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EF6F-1788-43CF-B08D-686EF1FC68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04EA-CEB2-4C4A-B13C-92869F8262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8D9D-E057-4D1F-B5FE-8E82E15D51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377-5BB5-4E00-B47A-6FE96BAC64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26E9-8954-47CC-8F92-6809FADEB5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F164-45C3-470C-AD61-CEEBE963A7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B170-1320-4825-A46D-9F5B09FC85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CA22-4114-415D-83D7-A2CCD4182D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FF8B-D9BC-4506-8373-F6EB29D749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DCFC-129C-45D6-BB8E-B1E14305CC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995D-498F-4A86-BABF-530DC331F3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7353-C46D-4133-9BCD-5726E66293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3E27-804C-40A9-BA8B-CBA5A990E7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A50-292E-4314-B428-D600D850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143-884B-40C1-9B47-BC678B47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2AC-8FE9-48AD-8A17-6FAF12CA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E7C-7F31-47CB-850C-019F693E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408D-3E3A-43B0-8380-9C879D51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8136-4A78-4828-8AAA-48BE7F08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517C-C384-4CD1-B065-AAD4AF36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4D42-5EEE-4471-A836-18FDC97E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01CE-5C44-473F-9781-560E05A5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67C-FA39-4686-9E8F-822B6A19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F3A1-5618-4E26-ABEF-3C6F958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636-3521-468A-8EE6-7C148267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73A9-8A3F-4931-92CF-969FBFC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E1E4-2B98-4027-AE4E-1A44918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B821-36B4-4E0D-ADE7-28EFF71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05AF-FA07-4B58-B51F-E5BDBB63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163E-10AB-427A-9F22-3DEFBED5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06EE-8DF7-45A1-9C72-2DCF6E14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52C7-69A2-4C40-9681-739652F0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7691-A0F2-48E5-8E0B-95DDB283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D1FA-F91C-415C-9704-7677A630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3556-A426-4913-975D-9AAA9A3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654-078F-40F2-9F92-DF35E445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5D84-A9E8-47CB-95B3-759A1361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7A25-B43F-44AC-9F9D-11F4E1F2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8302-B7C5-4044-BF58-E6D33CF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794F-13D7-45AC-ADFB-034F0C92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E3D6B-453E-4C08-93A2-460ECE5B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A75D-6BC7-4F5B-B5F8-807997D6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F48F-FA32-419A-82F4-97F7E12B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82D6-1289-4E1E-B1ED-078BB601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A2C6-94A1-4BEE-9B08-19F1E16D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BB12-28EB-4149-9557-17C4F0C0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7DD-DF3C-4C95-81D3-AEBE07B3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2C8FB-B8B4-4C08-B17B-AAE0DB95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3C8CD-932E-4817-AFFE-351DD52B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65EE-830F-42E6-B540-65EEAE86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9BF18-9854-4E5F-BF76-A4653B2D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B6D4-21B4-4001-B4D1-FB4E3FC0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4570-3D8E-436C-B6BC-29ECFDB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C39E-EDC7-4057-B23E-EDD545B2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189F3-2549-4EFB-AC91-308EDD9C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BF88-4F58-427B-963F-48A00972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D2161-0E39-4A8C-844A-20642876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21D-9ECD-45F5-BD21-D2545D7E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6784F-AA9E-463A-B5AC-6B224A5D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3F288-CC12-4608-B5B3-2B2738DA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70DFF-DA86-46C8-80D3-1E777B38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F05CA-00DE-4102-BC16-40907E86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6FA1B-87BB-4797-89EE-2CA6A38E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1290F-8BA5-4E7C-989C-1B3F745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7199-3155-400F-85F6-A217EC78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CBF7-C02A-4A4A-B31D-C2DBB265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E9680-A7C5-4BC7-BD1E-A588F195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BD3A-9E9E-4AE9-AC6A-5A1F8EC2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D4F-7452-4F5C-B15E-3E7E947E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7C4F-8A76-4C3A-9A1F-6D1BFF39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88B59-E0E9-443A-8B3D-D31E614A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2293-ADAE-4987-AF57-C685B702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2AE9D-5465-441E-BA2F-7C94C00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442D8-D05E-42D9-A3A7-ACFC5B6D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EB5E4-BAC5-451C-994B-D2844852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0BF3D-3DE0-4149-A01F-C853212D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6BAED-73D0-45C1-8BAC-13067866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2522A-BD83-4BC3-9B4F-5D0AD1FA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793E9-C67E-477B-A18F-147A285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CC5-B1A9-46A4-B70E-41FC4BC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31916-1FD4-433F-AF1B-D358FE0E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DDD23-1C87-46B4-9EBD-2B3BC4E7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8DF7-8BE4-4446-80C4-2990FF78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878-EA7E-4FB0-B085-AA5676B8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FB8-3121-4ED6-9C94-9BA6BC34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E46A-43C8-470F-B97E-553E24A60120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082E-17A0-4710-97C3-C63294B31471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C55C-2A94-4161-80FA-A8D0E199B0CC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456C-9A01-4F24-B511-06C765ED7ABD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F35F-B69E-4299-B778-0C9532E0C8DB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69C8-8F97-45A1-8E4F-C9CCAC6BAB87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highered.mcgraw-hill.com/sites/0072495855/student_view0/chapter2/animation__comparison_of_meiosis_and_mitosis__quiz_1_.html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658800" y="3895560"/>
            <a:ext cx="7978680" cy="1140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857160" y="514368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10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sexual vs. Sexual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ios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87692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ter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NA replicates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2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hase 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hook up into homologous pairs and form tetrad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rossing over may occu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Content Placeholder 4" descr="Meiosis 1.gif"/>
          <p:cNvPicPr/>
          <p:nvPr/>
        </p:nvPicPr>
        <p:blipFill>
          <a:blip r:embed="rId2"/>
          <a:srcRect l="0" t="4545" r="51251" b="0"/>
          <a:stretch/>
        </p:blipFill>
        <p:spPr>
          <a:xfrm>
            <a:off x="152280" y="1143000"/>
            <a:ext cx="4654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4" descr="Homologous 2.jpg"/>
          <p:cNvPicPr/>
          <p:nvPr/>
        </p:nvPicPr>
        <p:blipFill>
          <a:blip r:embed="rId2"/>
          <a:stretch/>
        </p:blipFill>
        <p:spPr>
          <a:xfrm>
            <a:off x="826920" y="2008080"/>
            <a:ext cx="3314880" cy="4048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65624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romosomes that both contain genetic information for the same biological trai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ne set is from the female parent, and the other set from the male parent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iosis I separates these chromosome pair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4" descr="Homologous 1.gif"/>
          <p:cNvPicPr/>
          <p:nvPr/>
        </p:nvPicPr>
        <p:blipFill>
          <a:blip r:embed="rId2"/>
          <a:stretch/>
        </p:blipFill>
        <p:spPr>
          <a:xfrm>
            <a:off x="546120" y="1447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en homologous chromosomes pair up they form a tetra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times the 2 closest chromatids within the tetrad exchange whole sections of genetic informati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4" descr="Meiosis 1.gif"/>
          <p:cNvPicPr/>
          <p:nvPr/>
        </p:nvPicPr>
        <p:blipFill>
          <a:blip r:embed="rId2"/>
          <a:srcRect l="48866" t="0" r="24724" b="0"/>
          <a:stretch/>
        </p:blipFill>
        <p:spPr>
          <a:xfrm>
            <a:off x="762120" y="1447920"/>
            <a:ext cx="2971800" cy="5064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656240" y="1769760"/>
            <a:ext cx="403848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Met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etrads line up along the center of the cel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4" descr="Meiosis 1.gif"/>
          <p:cNvPicPr/>
          <p:nvPr/>
        </p:nvPicPr>
        <p:blipFill>
          <a:blip r:embed="rId2"/>
          <a:srcRect l="75281" t="0" r="0" b="0"/>
          <a:stretch/>
        </p:blipFill>
        <p:spPr>
          <a:xfrm>
            <a:off x="838080" y="1447920"/>
            <a:ext cx="2743200" cy="5194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56240" y="1769760"/>
            <a:ext cx="403848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naphase I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7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Homologous pairs split up and move to opposite ends of the cel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25360" y="109440"/>
            <a:ext cx="8467920" cy="1042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962520" y="12949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elophase I &amp; Cytokine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parent cell divides into 2 haploid (N) daughter cells, each with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2 resulting daughter cells go directly into Prophase I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01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re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NO INTERPHASE II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Content Placeholder 6" descr="Meiosis 2.gif"/>
          <p:cNvPicPr/>
          <p:nvPr/>
        </p:nvPicPr>
        <p:blipFill>
          <a:blip r:embed="rId2"/>
          <a:srcRect l="0" t="0" r="61802" b="0"/>
          <a:stretch/>
        </p:blipFill>
        <p:spPr>
          <a:xfrm>
            <a:off x="257040" y="1295280"/>
            <a:ext cx="3629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8474040" cy="1042920"/>
          </a:xfrm>
          <a:prstGeom prst="rect">
            <a:avLst/>
          </a:prstGeom>
          <a:ln w="0">
            <a:noFill/>
          </a:ln>
        </p:spPr>
      </p:pic>
      <p:pic>
        <p:nvPicPr>
          <p:cNvPr id="329" name="Content Placeholder 4" descr="Meiosis 2.gif"/>
          <p:cNvPicPr/>
          <p:nvPr/>
        </p:nvPicPr>
        <p:blipFill>
          <a:blip r:embed="rId2"/>
          <a:srcRect l="21470" t="0" r="0" b="0"/>
          <a:stretch/>
        </p:blipFill>
        <p:spPr>
          <a:xfrm>
            <a:off x="228600" y="1371600"/>
            <a:ext cx="5332320" cy="4495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943240" y="1770120"/>
            <a:ext cx="30481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l phases of meiosis II occur just as in mitos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ach of the 2 cells produced from meiosis I divide, resulting in 4 daughter cells tot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4" descr=""/>
          <p:cNvPicPr/>
          <p:nvPr/>
        </p:nvPicPr>
        <p:blipFill>
          <a:blip r:embed="rId1"/>
          <a:stretch/>
        </p:blipFill>
        <p:spPr>
          <a:xfrm>
            <a:off x="682560" y="244440"/>
            <a:ext cx="2536920" cy="1614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3429000" cy="18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highered.mcgraw-hill.com/sites/0072495855/student_view0/chapter2/animation__comparison_of_meiosis_and_mitosis__quiz_1_.html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3" name="Content Placeholder 6" descr="MitosisvMeiosis 1.gif"/>
          <p:cNvPicPr/>
          <p:nvPr/>
        </p:nvPicPr>
        <p:blipFill>
          <a:blip r:embed="rId3"/>
          <a:stretch/>
        </p:blipFill>
        <p:spPr>
          <a:xfrm>
            <a:off x="4205160" y="365040"/>
            <a:ext cx="448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225360" y="390600"/>
            <a:ext cx="8467920" cy="104148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Meiosis.jpg"/>
          <p:cNvPicPr/>
          <p:nvPr/>
        </p:nvPicPr>
        <p:blipFill>
          <a:blip r:embed="rId2"/>
          <a:stretch/>
        </p:blipFill>
        <p:spPr>
          <a:xfrm>
            <a:off x="152280" y="1447920"/>
            <a:ext cx="4542120" cy="5275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876920" y="1770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rmation of gametes (sex cells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males, 4 sperm cell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females, 1 egg cell (ovum) and 3 polar bodies are produce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4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ito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8288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body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2 diploid (2N) daughter cells 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the full number of chromosomes (an exact copy of the parent cell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7960" y="182880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ccurs in sex cel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oduces 4 haploid (N) daughter cell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ch daughter cell contains half the number of chromosomes as the original parent cel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8010360" cy="1041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A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f91"/>
                </a:solidFill>
                <a:latin typeface="Corbel"/>
              </a:rPr>
              <a:t>Sexua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981080"/>
            <a:ext cx="404028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one par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are genetically identical to that paren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5 fo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ellular division (mitosi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udd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genera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res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on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1981080"/>
            <a:ext cx="404172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volves 2 par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sulting offspring have some genetic information (DNA) from each parent that recombines to form a genetically unique individual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7" descr=""/>
          <p:cNvPicPr/>
          <p:nvPr/>
        </p:nvPicPr>
        <p:blipFill>
          <a:blip r:embed="rId1"/>
          <a:stretch/>
        </p:blipFill>
        <p:spPr>
          <a:xfrm>
            <a:off x="828720" y="4937040"/>
            <a:ext cx="6950160" cy="714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Placeholder 11" descr="Amoeba Dividing.jpg"/>
          <p:cNvPicPr/>
          <p:nvPr/>
        </p:nvPicPr>
        <p:blipFill>
          <a:blip r:embed="rId2"/>
          <a:srcRect l="6649" t="0" r="6649" b="0"/>
          <a:stretch/>
        </p:blipFill>
        <p:spPr>
          <a:xfrm>
            <a:off x="914400" y="357120"/>
            <a:ext cx="6858000" cy="42861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914400" y="5643720"/>
            <a:ext cx="76960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rbel"/>
              </a:rPr>
              <a:t>Cellular Division: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parent cell divides into 2 daughter cell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5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1434960"/>
            <a:ext cx="3353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Budd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 produces an outgrowth (bud) of the body that later detaches into an individ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6" name="Picture Placeholder 4" descr="hydra budding.jpg"/>
          <p:cNvPicPr/>
          <p:nvPr/>
        </p:nvPicPr>
        <p:blipFill>
          <a:blip r:embed="rId2"/>
          <a:stretch/>
        </p:blipFill>
        <p:spPr>
          <a:xfrm>
            <a:off x="4038480" y="528480"/>
            <a:ext cx="4572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80520" y="1434960"/>
            <a:ext cx="312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generation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n organism develops from detached portions of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9" name="Picture Placeholder 7" descr="Planera Regeneration.jpg"/>
          <p:cNvPicPr/>
          <p:nvPr/>
        </p:nvPicPr>
        <p:blipFill>
          <a:blip r:embed="rId2"/>
          <a:stretch/>
        </p:blipFill>
        <p:spPr>
          <a:xfrm>
            <a:off x="3581280" y="609480"/>
            <a:ext cx="52437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8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43496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Spores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organisms develop from special cells produced by the parent organism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2" name="Picture Placeholder 7" descr="Spore Reproduction.jpg"/>
          <p:cNvPicPr/>
          <p:nvPr/>
        </p:nvPicPr>
        <p:blipFill>
          <a:blip r:embed="rId2"/>
          <a:stretch/>
        </p:blipFill>
        <p:spPr>
          <a:xfrm>
            <a:off x="3505320" y="533520"/>
            <a:ext cx="5181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3360" y="268200"/>
            <a:ext cx="2616120" cy="1170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440" y="1434960"/>
            <a:ext cx="25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Cloning: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a biotechnology technique in which offspring are genetic copies of the par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Content Placeholder 4" descr="Dolly the Sheep.jpg"/>
          <p:cNvPicPr/>
          <p:nvPr/>
        </p:nvPicPr>
        <p:blipFill>
          <a:blip r:embed="rId2"/>
          <a:stretch/>
        </p:blipFill>
        <p:spPr>
          <a:xfrm>
            <a:off x="3505320" y="838080"/>
            <a:ext cx="5172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4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ffspring receive half of their genetic information from one parent and half from the other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nes are carried on the chromosomes of sex cells – also called gamet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les = spe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emales = ovum (egg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2560" y="390600"/>
            <a:ext cx="8010720" cy="1041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ccurs only in gametes (sex cell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 sets of cell division involv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 daughter cells produc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ch daughter cell has half the chromosomes of the par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34:08Z</dcterms:created>
  <dc:creator>Joy Finerson</dc:creator>
  <dc:description/>
  <dc:language>en-US</dc:language>
  <cp:lastModifiedBy>Joy Finerson</cp:lastModifiedBy>
  <dcterms:modified xsi:type="dcterms:W3CDTF">2010-03-05T17:14:31Z</dcterms:modified>
  <cp:revision>51</cp:revision>
  <dc:subject/>
  <dc:title>Slide 1</dc:title>
</cp:coreProperties>
</file>